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/6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4E37-C211-4A35-80EB-E111375CE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/6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97A7-B071-4A8B-AF5D-0A7ABC136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4600" indent="-444600">
              <a:spcBef>
                <a:spcPts val="79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3488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51440" indent="-331200">
              <a:spcBef>
                <a:spcPts val="799"/>
              </a:spcBef>
              <a:buClr>
                <a:srgbClr val="cc99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1480" indent="-296640">
              <a:spcBef>
                <a:spcPts val="79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59720" indent="-3848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59720" indent="-3848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59720" indent="-3848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c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5880" y="6248520"/>
            <a:ext cx="731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SOUTH-WESTERN EDUCATIONAL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"/>
          <p:cNvGrpSpPr/>
          <p:nvPr/>
        </p:nvGrpSpPr>
        <p:grpSpPr>
          <a:xfrm>
            <a:off x="1278000" y="2514600"/>
            <a:ext cx="7313400" cy="3657600"/>
            <a:chOff x="1278000" y="2514600"/>
            <a:chExt cx="7313400" cy="3657600"/>
          </a:xfrm>
        </p:grpSpPr>
        <p:sp>
          <p:nvSpPr>
            <p:cNvPr id="41" name="Line 3"/>
            <p:cNvSpPr/>
            <p:nvPr/>
          </p:nvSpPr>
          <p:spPr>
            <a:xfrm>
              <a:off x="1278000" y="2514600"/>
              <a:ext cx="73134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Line 4"/>
            <p:cNvSpPr/>
            <p:nvPr/>
          </p:nvSpPr>
          <p:spPr>
            <a:xfrm flipV="1">
              <a:off x="1278000" y="2514600"/>
              <a:ext cx="0" cy="36576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Rectangle 8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c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7391520" y="152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5334120" y="1987560"/>
            <a:ext cx="3581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4600" indent="-444600">
              <a:spcBef>
                <a:spcPts val="79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3488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51440" indent="-331200">
              <a:spcBef>
                <a:spcPts val="799"/>
              </a:spcBef>
              <a:buClr>
                <a:srgbClr val="cc99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1480" indent="-296640">
              <a:spcBef>
                <a:spcPts val="79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59720" indent="-3848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59720" indent="-3848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59720" indent="-3848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1145880" y="6248520"/>
            <a:ext cx="731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SOUTH-WESTERN EDUCATIONAL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1146240" y="6248520"/>
            <a:ext cx="731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SOUTH-WESTERN EDUCATIONAL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2880" y="228600"/>
            <a:ext cx="6399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MANAGEMENT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FUNCTIONS AND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CISION MAKING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5280" y="2516040"/>
            <a:ext cx="7313760" cy="3579840"/>
          </a:xfrm>
          <a:prstGeom prst="rect">
            <a:avLst/>
          </a:prstGeom>
          <a:noFill/>
          <a:ln w="0">
            <a:noFill/>
          </a:ln>
        </p:spPr>
        <p:txBody>
          <a:bodyPr tIns="320040" anchor="t">
            <a:noAutofit/>
          </a:bodyPr>
          <a:p>
            <a:pPr marL="449280" indent="-449280">
              <a:spcBef>
                <a:spcPts val="451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the four functions of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451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iate between management and non-management employees and the various levels of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451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 the five major job responsibilities of supervis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451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how managers use information and business research in their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451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line the steps in an effective decision-making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7636680" y="517680"/>
            <a:ext cx="1052280" cy="10083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 Black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C:\Documents and Settings\30800\Local Settings\Temporary Internet Files\Content.IE5\XAST5BE9\MP910220874[1].jpg"/>
          <p:cNvPicPr/>
          <p:nvPr/>
        </p:nvPicPr>
        <p:blipFill>
          <a:blip r:embed="rId1"/>
          <a:stretch/>
        </p:blipFill>
        <p:spPr>
          <a:xfrm>
            <a:off x="8188200" y="3505320"/>
            <a:ext cx="1695600" cy="254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Documents and Settings\30800\Local Settings\Temporary Internet Files\Content.IE5\CRSJFY9F\MP900422585[1].jpg"/>
          <p:cNvPicPr/>
          <p:nvPr/>
        </p:nvPicPr>
        <p:blipFill>
          <a:blip r:embed="rId2"/>
          <a:stretch/>
        </p:blipFill>
        <p:spPr>
          <a:xfrm>
            <a:off x="1600200" y="5105520"/>
            <a:ext cx="3198960" cy="21286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1146240" y="6248520"/>
            <a:ext cx="731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SOUTH-WESTERN EDUCATIONAL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ATURE OF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alyzing information and making decisions about what needs to be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cerned with determining how plans can be accomplished effectively and arranging resources to complete the work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rrying out the plans and helping employees work eff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valuating results to determine if the company’s objectives have been accomplished as plann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nd non-management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in job is to direct work of employees.  (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evel of manag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-manag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mpletes all mgmt. functions, but spends most of the time on one management function such as controlling or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p-level manager who spends almost all time on mgmt. functions.  Other managers report to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-3581280" y="1047600"/>
            <a:ext cx="4762440" cy="2381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-3535200" y="3432240"/>
            <a:ext cx="3543120" cy="369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8991720" y="228600"/>
            <a:ext cx="3324240" cy="3333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4"/>
          <a:stretch/>
        </p:blipFill>
        <p:spPr>
          <a:xfrm>
            <a:off x="9564840" y="3733920"/>
            <a:ext cx="2178000" cy="29257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1146240" y="6248520"/>
            <a:ext cx="731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SOUTH-WESTERN EDUCATIONAL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UPERVISI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pervisor's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457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iveness of a supervisor’s job is determined by 3 fa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11200" indent="-3808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of the work of the supervised employ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11200" indent="-3808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fficient use of the company’s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11200" indent="-3808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atisfaction of the supervisor’s employ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ilities of supervi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4572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goals and directions of management to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4572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employee concerns and ideas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4572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and improve employe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4572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employees to do their bes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4572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sources effici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-to-day management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schedules; time schedules; memos; reports; evaluation checklists; quality contr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supervisory skil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formal training; books and materials on training; management classes at local colleges; mentor program; computer based training programs; networking with experienced work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Documents and Settings\30800\Local Settings\Temporary Internet Files\Content.IE5\XAST5BE9\MC900060229[1].wmf"/>
          <p:cNvPicPr/>
          <p:nvPr/>
        </p:nvPicPr>
        <p:blipFill>
          <a:blip r:embed="rId1"/>
          <a:stretch/>
        </p:blipFill>
        <p:spPr>
          <a:xfrm>
            <a:off x="9209160" y="5037120"/>
            <a:ext cx="1307880" cy="182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" descr=""/>
          <p:cNvPicPr/>
          <p:nvPr/>
        </p:nvPicPr>
        <p:blipFill>
          <a:blip r:embed="rId2"/>
          <a:stretch/>
        </p:blipFill>
        <p:spPr>
          <a:xfrm>
            <a:off x="-3657600" y="-152280"/>
            <a:ext cx="4124160" cy="4297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-3657600" y="3886200"/>
            <a:ext cx="4800600" cy="3490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4"/>
          <a:stretch/>
        </p:blipFill>
        <p:spPr>
          <a:xfrm>
            <a:off x="7823160" y="1509840"/>
            <a:ext cx="4079880" cy="23907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1146240" y="6248520"/>
            <a:ext cx="731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SOUTH-WESTERN EDUCATIONAL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USING MANAGEMENT INFORMATION 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80000"/>
              </a:lnSpc>
              <a:spcBef>
                <a:spcPts val="150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se the information to reduce the amount of time spend on controlling activiti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150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rese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ust make decisions based on research by the business itself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-difficult situation that needs a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ptom-indicates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and 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in 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possib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th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best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:\Documents and Settings\30800\Local Settings\Temporary Internet Files\Content.IE5\XAST5BE9\MC900234356[1].wmf"/>
          <p:cNvPicPr/>
          <p:nvPr/>
        </p:nvPicPr>
        <p:blipFill>
          <a:blip r:embed="rId1"/>
          <a:stretch/>
        </p:blipFill>
        <p:spPr>
          <a:xfrm>
            <a:off x="6743880" y="0"/>
            <a:ext cx="2400120" cy="1538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Documents and Settings\30800\Local Settings\Temporary Internet Files\Content.IE5\XAST5BE9\MC900434411[1].wmf"/>
          <p:cNvPicPr/>
          <p:nvPr/>
        </p:nvPicPr>
        <p:blipFill>
          <a:blip r:embed="rId2"/>
          <a:stretch/>
        </p:blipFill>
        <p:spPr>
          <a:xfrm>
            <a:off x="7010280" y="3657600"/>
            <a:ext cx="162576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7T04:47:20Z</dcterms:created>
  <dc:creator>Mary Colleen McLaughlin</dc:creator>
  <dc:description/>
  <dc:language>en-US</dc:language>
  <cp:lastModifiedBy>test</cp:lastModifiedBy>
  <cp:lastPrinted>2000-10-06T23:21:34Z</cp:lastPrinted>
  <dcterms:modified xsi:type="dcterms:W3CDTF">2013-10-15T14:45:52Z</dcterms:modified>
  <cp:revision>16</cp:revision>
  <dc:subject/>
  <dc:title>CHAPTER 11</dc:title>
</cp:coreProperties>
</file>