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54FF33-1D9D-4C6C-AF6F-698726EDC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tarting the chapter…Have students read the article, </a:t>
            </a:r>
            <a:r>
              <a:rPr b="0" i="1" lang="en-US" sz="1200" spc="-1" strike="noStrike">
                <a:solidFill>
                  <a:srgbClr val="000000"/>
                </a:solidFill>
                <a:latin typeface="Arial"/>
              </a:rPr>
              <a:t>Fair Play, Title IX,</a:t>
            </a:r>
            <a:r>
              <a:rPr b="0" lang="en-US" sz="1200" spc="-1" strike="noStrike">
                <a:solidFill>
                  <a:srgbClr val="000000"/>
                </a:solidFill>
                <a:latin typeface="Arial"/>
              </a:rPr>
              <a:t> so they understand what Title IX is when we discuss it as an “increasing co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op selling pract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ll – 7</a:t>
            </a:r>
            <a:r>
              <a:rPr b="0" lang="en-US" sz="1200" spc="-1" strike="noStrike" baseline="30000">
                <a:solidFill>
                  <a:srgbClr val="000000"/>
                </a:solidFill>
                <a:latin typeface="Arial"/>
              </a:rPr>
              <a:t>th</a:t>
            </a:r>
            <a:r>
              <a:rPr b="0" lang="en-US" sz="1200" spc="-1" strike="noStrike">
                <a:solidFill>
                  <a:srgbClr val="000000"/>
                </a:solidFill>
                <a:latin typeface="Arial"/>
              </a:rPr>
              <a:t> inn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ball – 3</a:t>
            </a:r>
            <a:r>
              <a:rPr b="0" lang="en-US" sz="1200" spc="-1" strike="noStrike" baseline="30000">
                <a:solidFill>
                  <a:srgbClr val="000000"/>
                </a:solidFill>
                <a:latin typeface="Arial"/>
              </a:rPr>
              <a:t>rd</a:t>
            </a:r>
            <a:r>
              <a:rPr b="0" lang="en-US" sz="1200" spc="-1" strike="noStrike">
                <a:solidFill>
                  <a:srgbClr val="000000"/>
                </a:solidFill>
                <a:latin typeface="Arial"/>
              </a:rPr>
              <a:t> quar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ckey – 2</a:t>
            </a:r>
            <a:r>
              <a:rPr b="0" lang="en-US" sz="1200" spc="-1" strike="noStrike" baseline="30000">
                <a:solidFill>
                  <a:srgbClr val="000000"/>
                </a:solidFill>
                <a:latin typeface="Arial"/>
              </a:rPr>
              <a:t>nd</a:t>
            </a:r>
            <a:r>
              <a:rPr b="0" lang="en-US" sz="1200" spc="-1" strike="noStrike">
                <a:solidFill>
                  <a:srgbClr val="000000"/>
                </a:solidFill>
                <a:latin typeface="Arial"/>
              </a:rPr>
              <a:t> perio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Palace at Auburn Hill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70 million arena was built for the Detroit Pistons…it has 180 suites that generate $12 million/yr in suite rentals…paid off the venue debt in 6 year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12 million income stream now flows directly to the Piston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Coliseum was built in the same year…had only 12 suites compared to the Piston’s 180…Coliseum realizes $15 million less in yearly revenue even though the overall seating capacity of the Coliseum is greater!</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venue is the main reason the Charlotte Hornets relocated to New Orleans in 2002</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What?  Eventually Charlotte built a new facility for their new team that began to play in Charlotte in 2004…Bobcats, right?</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favorable lease agreement </a:t>
            </a:r>
            <a:r>
              <a:rPr b="0" lang="en-US" sz="1200" spc="-1" strike="noStrike">
                <a:solidFill>
                  <a:srgbClr val="000000"/>
                </a:solidFill>
                <a:latin typeface="Wingdings"/>
                <a:ea typeface="Wingdings"/>
              </a:rPr>
              <a:t></a:t>
            </a:r>
            <a:r>
              <a:rPr b="0" lang="en-US" sz="1200" spc="-1" strike="noStrike">
                <a:solidFill>
                  <a:srgbClr val="000000"/>
                </a:solidFill>
                <a:latin typeface="Arial"/>
              </a:rPr>
              <a:t> Orioles retain 90% of luxury suite and 93% of club seat revenue at Camden Yards </a:t>
            </a:r>
            <a:r>
              <a:rPr b="0" lang="en-US" sz="1200" spc="-1" strike="noStrike">
                <a:solidFill>
                  <a:srgbClr val="000000"/>
                </a:solidFill>
                <a:latin typeface="Wingdings"/>
                <a:ea typeface="Wingdings"/>
              </a:rPr>
              <a:t></a:t>
            </a:r>
            <a:r>
              <a:rPr b="0" lang="en-US" sz="1200" spc="-1" strike="noStrike">
                <a:solidFill>
                  <a:srgbClr val="000000"/>
                </a:solidFill>
                <a:latin typeface="Arial"/>
              </a:rPr>
              <a:t> yielding $12 million in yearly revenue.</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s, Luxury Seating is the fastest growing source of income for professional teams, and it is starting to be used at the college level, to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an area saturated with luxury su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timore/Washington area is saturated with over 6000 luxury suites i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oles ballpark</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skins and Ravens stadium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and Capitals new are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reviewing slide, m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 are in business to make a profi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one management definition – Working with people to get the job done in an efficient and cost-effective manner ultimately maximizing profi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wants profits to increase every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ard to make that happen, b/c there are two serious financial challenges fac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review the Revenue – Costs = Profit lin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things like ticket sales, concession sales, sales of licensed sport mdse., sales of signa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all costs of running the franchise…things like coaches salaries, cleaning supplies, janitorial staff, hotdog rolls, anyth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slide, m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ace of increasing costs and stable/declining revenue, it is hard enough to sustain profits let alone increase them each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 managers are challeng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permanent basis…A previous program from the Oakland Raiders failed because it lacked the permanent feat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rst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Financial Group paid $139.6 million over 20 years, an annual average of $6.7 million, to obtain the naming rights to the Eagles new stadiu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ollege”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Maryland…made a 25-year, $20 million naming rights deal with Comcast Corporation…Comcast Center opened in Nov. 2002 for the Terrapins’ men’s and women’s basketball tea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the “Overall”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T Bank paid $75 million over 15 years in 2003 for the naming rights to the Baltimore Raven’s stadiu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they got for their money…prominent placement of the M&amp;T Bank name inside and outside the stadium, a luxury suite for all stadium events, in- stadium M&amp;T Bank ATMs, a mini-bank branch near the ticket counters, highway signs, and the renaming of the team’s band to “M&amp;T Bank Marching Rave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that is extensive public expos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eightened Visibility</a:t>
            </a:r>
            <a:r>
              <a:rPr b="0" lang="en-US" sz="1200" spc="-1" strike="noStrike">
                <a:solidFill>
                  <a:srgbClr val="000000"/>
                </a:solidFill>
                <a:latin typeface="Arial"/>
              </a:rPr>
              <a:t> – opportunity to increase awareness of a new or existing brand o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age Enhancement</a:t>
            </a:r>
            <a:r>
              <a:rPr b="0" lang="en-US" sz="1200" spc="-1" strike="noStrike">
                <a:solidFill>
                  <a:srgbClr val="000000"/>
                </a:solidFill>
                <a:latin typeface="Arial"/>
              </a:rPr>
              <a:t> – Ability to create or reinforce an image for a product or to counter a negative public perception by aligning the company’s name with a team or event that has great prestige or fan app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duct Trial or Sale Opportunities</a:t>
            </a:r>
            <a:r>
              <a:rPr b="0" lang="en-US" sz="1200" spc="-1" strike="noStrike">
                <a:solidFill>
                  <a:srgbClr val="000000"/>
                </a:solidFill>
                <a:latin typeface="Arial"/>
              </a:rPr>
              <a:t> – Opportunity to showcase product benefits (think of tire manufacturer’s sponsorship of auto racing); or to induce sales through promotional giveaways, coupon tie-ins or point of purchase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ospitality Opportunities</a:t>
            </a:r>
            <a:r>
              <a:rPr b="0" lang="en-US" sz="1200" spc="-1" strike="noStrike">
                <a:solidFill>
                  <a:srgbClr val="000000"/>
                </a:solidFill>
                <a:latin typeface="Arial"/>
              </a:rPr>
              <a:t> – companies can entertain key clients at sporting events.  For example, golf tournament sponsors offer prime customers a chance to be hosted in VIP tents for the event – a great setting for solidifying business relationship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ponsors of Georgia Tech football games got the following in return for their sponsorship fe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regional TV spots during the gam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page ad on game day in Atlanta’s leading newspaper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hospitality tent on game da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catered luxury suit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seating for 250</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logo posted at the stadium and on all season football poste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alty fee revenue received by the 4 major professional leagues (NFL, NBA, MLS NHL) each year exceed $850 mill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 as I review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Huge!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ncinnati spent $44 million to build Riverfront stadium in 1970 for the Reds (MLB) and Bengals (NF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6, Cincinnati decided to replace it with two venues:  Paul Brown Stadium (football) and Great American Ballpark (baseb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st over $720 million.  It is possible that the debt service (cost of paying back principle and interest) in any given year could be as high as $40 million – almost what it cost to build Riverfront stadium just over 25 years ag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aries Have Skyrocketed!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2, the average MLB player salary was $2.3 million, an increase of 123% from the $1.03 million average salary 10 years earlier in 199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L states 68% of the total team revenues are spent on sala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A states that player salaries consume 64% of total revenues annual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 as I review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ition Costs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uition is rapidly increasing at all colleges, athletic departments are forced to spend much more on athletic scholar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X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itle IX only effects educational institutions receiving federal funding, it does not effect professional sports (interscholastic and intercollegiate athletics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d heading, state the following before moving through the rest of the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four sport leagues (MLB, NHL, NBA and NFL) grew from 73 teams in 1975 to 123 in 200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NBA and MLS are both gr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CAR and PGA are also growing in popula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 league ice hockey and basketball have grown fast over last dec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na Football League (AFL) has gr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sports </a:t>
            </a:r>
            <a:r>
              <a:rPr b="0" lang="en-US" sz="1200" spc="-1" strike="noStrike">
                <a:solidFill>
                  <a:srgbClr val="000000"/>
                </a:solidFill>
                <a:latin typeface="Wingdings"/>
                <a:ea typeface="Wingdings"/>
              </a:rPr>
              <a:t></a:t>
            </a:r>
            <a:r>
              <a:rPr b="0" lang="en-US" sz="1200" spc="-1" strike="noStrike">
                <a:solidFill>
                  <a:srgbClr val="000000"/>
                </a:solidFill>
                <a:latin typeface="Arial"/>
              </a:rPr>
              <a:t> X-Games and Great Outdoor Ga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 S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S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y is Staggering in Scope and Siz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Institutional Support under College Sports heading…this refers to more financial support from the univers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will discuss the Traditional Sources of Revenue for sports, then discuss some of the Newer Sources of Revenue that have sustained profits over the last 10 years in the face of increasing costs and declining revenu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arding the NFL’s most prominent source of reven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0’s owners of NFL agreed to equally share the revenue from the </a:t>
            </a:r>
            <a:r>
              <a:rPr b="1" i="1" lang="en-US" sz="1200" spc="-1" strike="noStrike">
                <a:solidFill>
                  <a:srgbClr val="000000"/>
                </a:solidFill>
                <a:latin typeface="Arial"/>
              </a:rPr>
              <a:t>national </a:t>
            </a:r>
            <a:r>
              <a:rPr b="0" lang="en-US" sz="1200" spc="-1" strike="noStrike">
                <a:solidFill>
                  <a:srgbClr val="000000"/>
                </a:solidFill>
                <a:latin typeface="Arial"/>
              </a:rPr>
              <a:t>broadcast contra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half of the total revenue generated by NFL teams comes from this broadcast revenue sharing arran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qual share revenue distribution agreement assures financial equality among NFL franchis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in the smallest markets…like Green Bay Packers receive the same common share ($74.5 million in 2001) as teams in the largest markets, such as the New York Giants and J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ll…sharing does not occur…a huge difference exists  in broadcasting revenue due to the difference in </a:t>
            </a:r>
            <a:r>
              <a:rPr b="1" i="1" lang="en-US" sz="1200" spc="-1" strike="noStrike">
                <a:solidFill>
                  <a:srgbClr val="000000"/>
                </a:solidFill>
                <a:latin typeface="Arial"/>
              </a:rPr>
              <a:t>local</a:t>
            </a:r>
            <a:r>
              <a:rPr b="0" lang="en-US" sz="1200" spc="-1" strike="noStrike">
                <a:solidFill>
                  <a:srgbClr val="000000"/>
                </a:solidFill>
                <a:latin typeface="Arial"/>
              </a:rPr>
              <a:t> TV revenues paid to teams in large metro areas vs. those in smaller c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AD2EC-4391-45DE-A4B8-4E1BEED1C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593DB-F8C9-445B-AE27-3A2B41158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267F1-4A99-4509-B9FB-E179C006D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A25CB-C548-4965-A013-0275937EC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8C93A-D5D3-4D3F-93B3-C3B4552872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88061-F553-46B6-B667-0CDF0B59C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FB963-D99F-44D2-B012-C92B3151B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719EE-6696-4361-A31D-A97D7FB87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8EF6D-2152-475C-9731-20606FCDF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D8DC1-517A-4ED6-B516-527F2AE5E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E2AF2-77B7-4C6A-A72C-53F2D5CE5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C376A-51ED-4FB5-9FD2-F8301D4CE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2F6F2-B326-4FAE-AA57-333299FE5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FC627-E423-441B-BD6D-4D5DFBF90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6716E-2470-4BCF-B1E2-F8A0D04D6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79E02-C8D0-44DF-9D3F-DC5BA36DC2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F5635-5E59-40AB-B2B6-CE915A6E0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893A1-7D49-4DE0-9E98-A5E4B33EC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E37DD-2820-454C-8998-2F99635B5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83174-D0BD-4B55-BCE6-BBB5243F4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857C7-9401-49FA-B6B7-BBBBA9790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CAD70-D02B-4674-B6DD-8D9786A2B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F52A7-0756-4C29-93CD-4E3F2B86F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34DF9-63C1-45C4-9439-CE04A6BF2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0863-2594-41AB-8CF2-83C488EEC3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F1D1-9C80-4C46-A404-2BD7B9989C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Sport Management</a:t>
            </a:r>
            <a:endParaRPr b="0" lang="en-US" sz="48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Financial Princi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Revenue Source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 </a:t>
            </a:r>
            <a:r>
              <a:rPr b="0" lang="en-US" sz="2600" spc="-1" strike="noStrike">
                <a:solidFill>
                  <a:srgbClr val="000000"/>
                </a:solidFill>
                <a:latin typeface="Wingdings"/>
                <a:ea typeface="Wingdings"/>
              </a:rPr>
              <a:t></a:t>
            </a:r>
            <a:r>
              <a:rPr b="0" lang="en-US" sz="2600" spc="-1" strike="noStrike">
                <a:solidFill>
                  <a:srgbClr val="000000"/>
                </a:solidFill>
                <a:latin typeface="Arial"/>
              </a:rPr>
              <a:t> Determining optimal ticket price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reasing prices discourage fan from attending</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 exists a </a:t>
            </a:r>
            <a:r>
              <a:rPr b="0" lang="en-US" sz="2300" spc="-1" strike="noStrike" u="sng">
                <a:solidFill>
                  <a:srgbClr val="000000"/>
                </a:solidFill>
                <a:uFillTx/>
                <a:latin typeface="Arial"/>
              </a:rPr>
              <a:t>price threshold</a:t>
            </a:r>
            <a:r>
              <a:rPr b="0" lang="en-US" sz="2300" spc="-1" strike="noStrike">
                <a:solidFill>
                  <a:srgbClr val="000000"/>
                </a:solidFill>
                <a:latin typeface="Arial"/>
              </a:rPr>
              <a:t>; the price beyond which fans will resist payment</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 identify customer’s expected price threshold by conducting </a:t>
            </a:r>
            <a:r>
              <a:rPr b="0" lang="en-US" sz="2300" spc="-1" strike="noStrike" u="sng">
                <a:solidFill>
                  <a:srgbClr val="000000"/>
                </a:solidFill>
                <a:uFillTx/>
                <a:latin typeface="Arial"/>
              </a:rPr>
              <a:t>market research</a:t>
            </a: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fessional Spor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BIG</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od service and souvenir merchandise account for a large share of revenue.</a:t>
            </a:r>
            <a:endParaRPr b="0" lang="en-US" sz="23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or League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BIGGER</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ticket sales are low, concession sales are very important – they may actually determine a teams profitabili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ateur Spor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LITTLE</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ss of a financial role because of the lack of beer sal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professional sports, beer account for approximately 35% to 55% of total concession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st colleges and high schools do not allow beer sal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30" name="PlaceHolder 2"/>
          <p:cNvSpPr>
            <a:spLocks noGrp="1"/>
          </p:cNvSpPr>
          <p:nvPr>
            <p:ph/>
          </p:nvPr>
        </p:nvSpPr>
        <p:spPr>
          <a:xfrm>
            <a:off x="914040" y="1599840"/>
            <a:ext cx="8001000" cy="52578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cohol is a serious concern</a:t>
            </a:r>
            <a:endParaRPr b="0" lang="en-US" sz="26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om a revenue perspective, sales of alcohol make sense, however…</a:t>
            </a:r>
            <a:endParaRPr b="0" lang="en-US" sz="21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ightened awareness of the negative consequences of drinking, including traffic deaths, underage drinking, and unruly fan behavior, have led sport organizations to re-evaluate their policies surrounding alcohol.</a:t>
            </a:r>
            <a:endParaRPr b="0" lang="en-US" sz="21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licies include:</a:t>
            </a:r>
            <a:endParaRPr b="0" lang="en-US" sz="2100" spc="-1" strike="noStrike">
              <a:solidFill>
                <a:srgbClr val="000000"/>
              </a:solidFill>
              <a:latin typeface="Arial"/>
            </a:endParaRPr>
          </a:p>
          <a:p>
            <a:pPr lvl="3" marL="1752480" indent="-380880">
              <a:spcBef>
                <a:spcPts val="451"/>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ed “family sections” where alcohol is prohibited </a:t>
            </a:r>
            <a:endParaRPr b="0" lang="en-US" sz="1800" spc="-1" strike="noStrike">
              <a:solidFill>
                <a:srgbClr val="000000"/>
              </a:solidFill>
              <a:latin typeface="Arial"/>
            </a:endParaRPr>
          </a:p>
          <a:p>
            <a:pPr lvl="3" marL="1752480" indent="-380880">
              <a:spcBef>
                <a:spcPts val="451"/>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Selling practices</a:t>
            </a:r>
            <a:endParaRPr b="0" lang="en-US" sz="18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lcohol will continue to be a serious concern</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in the 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st Trend in Concession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ing diverse and higher quality food and beverage option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sed on the idea that fans will spend more if offered appealing choices like:</a:t>
            </a:r>
            <a:endParaRPr b="0" lang="en-US" sz="23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ed menu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scale menu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court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staff </a:t>
            </a:r>
            <a:endParaRPr b="0" lang="en-US" sz="20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as it worked?  Yes, spending has increase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600200"/>
            <a:ext cx="7772400" cy="4952880"/>
          </a:xfrm>
          <a:prstGeom prst="rect">
            <a:avLst/>
          </a:prstGeom>
          <a:noFill/>
          <a:ln w="0">
            <a:noFill/>
          </a:ln>
        </p:spPr>
        <p:txBody>
          <a:bodyPr lIns="90000" rIns="90000" tIns="46800" bIns="46800" anchor="t">
            <a:normAutofit/>
          </a:bodyPr>
          <a:p>
            <a:pPr marL="5335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rPr>
              <a:t>Ticket Sales and Concessions will continue to provide a foundation of revenue for sport teams, however, increasing costs and competition force managers to seek out new sources of revenue to maintain profit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xury Seating</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anent Seat License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Right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orate Sponsorship</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censing</a:t>
            </a:r>
            <a:endParaRPr b="0" lang="en-US" sz="26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Fastest growing source of income</a:t>
            </a:r>
            <a:r>
              <a:rPr b="0" lang="en-US" sz="2600" spc="-1" strike="noStrike">
                <a:solidFill>
                  <a:srgbClr val="000000"/>
                </a:solidFill>
                <a:latin typeface="Arial"/>
              </a:rPr>
              <a:t> for professional teams.</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xury Suites</a:t>
            </a:r>
            <a:endParaRPr b="0" lang="en-US" sz="26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t bar, carpeting, TV, catered food, private bath, VIP parking pass, seating for 12 to 24</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urchased or leased by corporations for entertaining clients or rewarding employees.</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ax laws allow businesses to deduct 50% of the cost as a business entertainment expense.  This has encouraged thousands of corporations to inves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b Sea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de bottom, cushioned seats with chair backs, in-seat wait service, enclosed lounge area, wide screen TV</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ss extravagant option for individual fans seeking premium seating.</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5252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e potential is hu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ome potential was fully demonstrated when the Palace at Auburn Hills was built in 1988.</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alization of income potential associated with luxury seating has prompted many teams to </a:t>
            </a:r>
            <a:r>
              <a:rPr b="0" lang="en-US" sz="2300" spc="-1" strike="noStrike" u="sng">
                <a:solidFill>
                  <a:srgbClr val="000000"/>
                </a:solidFill>
                <a:uFillTx/>
                <a:latin typeface="Arial"/>
              </a:rPr>
              <a:t>threaten relocation</a:t>
            </a:r>
            <a:r>
              <a:rPr b="0" lang="en-US" sz="2300" spc="-1" strike="noStrike">
                <a:solidFill>
                  <a:srgbClr val="000000"/>
                </a:solidFill>
                <a:latin typeface="Arial"/>
              </a:rPr>
              <a:t> to a newer venue with more suit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deter relocation, teams are often granted </a:t>
            </a:r>
            <a:r>
              <a:rPr b="0" lang="en-US" sz="2300" spc="-1" strike="noStrike" u="sng">
                <a:solidFill>
                  <a:srgbClr val="000000"/>
                </a:solidFill>
                <a:uFillTx/>
                <a:latin typeface="Arial"/>
              </a:rPr>
              <a:t>favorable lease agreements</a:t>
            </a:r>
            <a:r>
              <a:rPr b="0" lang="en-US" sz="2300" spc="-1" strike="noStrike">
                <a:solidFill>
                  <a:srgbClr val="000000"/>
                </a:solidFill>
                <a:latin typeface="Arial"/>
              </a:rPr>
              <a:t> allowing them to  retain the majority of luxury seating reven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possible that suite construction has exceeded demand.</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ll there be enough corporations to support all the suites being built?</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every market there is a finite number of businesses with the financial capability and willingness to spend money on suit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inancial Health of Sports</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Serious Financial Challenges Face Managers of Sport Organizations!</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sts</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le/Declining Revenue</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 – Costs = Profit</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M - $70M = $30M</a:t>
            </a:r>
            <a:endParaRPr b="0" lang="en-US" sz="28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M - $80M = $20M </a:t>
            </a:r>
            <a:r>
              <a:rPr b="0" lang="en-US" sz="1400" spc="-1" strike="noStrike">
                <a:solidFill>
                  <a:srgbClr val="000000"/>
                </a:solidFill>
                <a:latin typeface="Arial"/>
              </a:rPr>
              <a:t>(increased costs)</a:t>
            </a:r>
            <a:endParaRPr b="0" lang="en-US" sz="14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M - $80M = $10M </a:t>
            </a:r>
            <a:r>
              <a:rPr b="0" lang="en-US" sz="1400" spc="-1" strike="noStrike">
                <a:solidFill>
                  <a:srgbClr val="000000"/>
                </a:solidFill>
                <a:latin typeface="Arial"/>
              </a:rPr>
              <a:t>(increased costs &amp; reduced revenue)</a:t>
            </a:r>
            <a:endParaRPr b="0" lang="en-US" sz="14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txBox="1"/>
          <p:nvPr/>
        </p:nvSpPr>
        <p:spPr>
          <a:xfrm>
            <a:off x="2590920" y="5713560"/>
            <a:ext cx="4267080" cy="114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Double Whammy!</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7">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base">
                                        <p:cTn id="31" dur="500" fill="hold"/>
                                        <p:tgtEl>
                                          <p:spTgt spid="108"/>
                                        </p:tgtEl>
                                        <p:attrNameLst>
                                          <p:attrName>ppt_x</p:attrName>
                                        </p:attrNameLst>
                                      </p:cBhvr>
                                      <p:tavLst>
                                        <p:tav tm="0">
                                          <p:val>
                                            <p:strVal val="#ppt_x"/>
                                          </p:val>
                                        </p:tav>
                                        <p:tav tm="100000">
                                          <p:val>
                                            <p:strVal val="#ppt_x"/>
                                          </p:val>
                                        </p:tav>
                                      </p:tavLst>
                                    </p:anim>
                                    <p:anim calcmode="lin" valueType="num">
                                      <p:cBhvr additive="base">
                                        <p:cTn id="3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Seat Licenses (PSL’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ve fans the </a:t>
            </a:r>
            <a:r>
              <a:rPr b="0" lang="en-US" sz="2600" spc="-1" strike="noStrike" u="sng">
                <a:solidFill>
                  <a:srgbClr val="000000"/>
                </a:solidFill>
                <a:uFillTx/>
                <a:latin typeface="Arial"/>
              </a:rPr>
              <a:t>right to purchase</a:t>
            </a:r>
            <a:r>
              <a:rPr b="0" lang="en-US" sz="2600" spc="-1" strike="noStrike">
                <a:solidFill>
                  <a:srgbClr val="000000"/>
                </a:solidFill>
                <a:latin typeface="Arial"/>
              </a:rPr>
              <a:t> season tickets, often for the life of the venue, in return for an </a:t>
            </a:r>
            <a:r>
              <a:rPr b="0" lang="en-US" sz="2600" spc="-1" strike="noStrike" u="sng">
                <a:solidFill>
                  <a:srgbClr val="000000"/>
                </a:solidFill>
                <a:uFillTx/>
                <a:latin typeface="Arial"/>
              </a:rPr>
              <a:t>up-front payment</a:t>
            </a:r>
            <a:r>
              <a:rPr b="0" lang="en-US" sz="2600" spc="-1" strike="noStrike">
                <a:solidFill>
                  <a:srgbClr val="000000"/>
                </a:solidFill>
                <a:latin typeface="Arial"/>
              </a:rPr>
              <a: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ces vary based upon seat location</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ges have begun to adopt the concep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gles PSL program at the Link</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ed 29,000 seat licens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ces ranged from $1,760 to $3,617</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aised $60 mill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Seat Licenses (PSL’s) (cont.)</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eatures of Successful PSL Program</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ust be sold on a permanent basis (for the life of the stadium)</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wners must have the right to sell or transfer the license to any other family member</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ey back guarantee – team agrees to buy back the license for current market value or no less than 70% to 85% of its original pric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8" name="PlaceHolder 2"/>
          <p:cNvSpPr>
            <a:spLocks noGrp="1"/>
          </p:cNvSpPr>
          <p:nvPr>
            <p:ph/>
          </p:nvPr>
        </p:nvSpPr>
        <p:spPr>
          <a:xfrm>
            <a:off x="914040" y="1600200"/>
            <a:ext cx="8001000" cy="510552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ights</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rporation purchases the right to put its name on a stadium or arena.</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ed in the 1990’s, but halted a bit in early 2000 due to economic slowdown and technology industry stock crash, which forced many companies to prematurely end their naming rights deals (Enron; Adelphia).</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ility owners are now careful about attracting naming rights partners that are stable and reputabl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aming rights market seems to have begun to reemerge since late 200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ight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ing rate at a major venue is $2 to $6 million per year</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ges have begun to use naming rights sponsors as a way to raise money to build new facilitie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all, corporations see naming rights as a </a:t>
            </a:r>
            <a:r>
              <a:rPr b="0" lang="en-US" sz="2600" spc="-1" strike="noStrike" u="sng">
                <a:solidFill>
                  <a:srgbClr val="000000"/>
                </a:solidFill>
                <a:uFillTx/>
                <a:latin typeface="Arial"/>
              </a:rPr>
              <a:t>cost-effective way</a:t>
            </a:r>
            <a:r>
              <a:rPr b="0" lang="en-US" sz="2600" spc="-1" strike="noStrike">
                <a:solidFill>
                  <a:srgbClr val="000000"/>
                </a:solidFill>
                <a:latin typeface="Arial"/>
              </a:rPr>
              <a:t> for their company to receive </a:t>
            </a:r>
            <a:r>
              <a:rPr b="0" lang="en-US" sz="2600" spc="-1" strike="noStrike" u="sng">
                <a:solidFill>
                  <a:srgbClr val="000000"/>
                </a:solidFill>
                <a:uFillTx/>
                <a:latin typeface="Arial"/>
              </a:rPr>
              <a:t>extensive public exposure</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ponsorship</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quisition of rights to affiliate or directly associate with a  product or event for the purpose of deriving benefits related to that affiliation.  (remember thi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nefits for the Corporation</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eightened Visibility</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mage Enhancement</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 Trial or Sale Opportunities</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spitality Opportunit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4"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ponsorship (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orate sponsorship is a great way to achieve </a:t>
            </a:r>
            <a:r>
              <a:rPr b="0" lang="en-US" sz="2600" spc="-1" strike="noStrike" u="sng">
                <a:solidFill>
                  <a:srgbClr val="000000"/>
                </a:solidFill>
                <a:uFillTx/>
                <a:latin typeface="Arial"/>
              </a:rPr>
              <a:t>extensive public exposure</a:t>
            </a:r>
            <a:r>
              <a:rPr b="0" lang="en-US" sz="2600" spc="-1" strike="noStrike">
                <a:solidFill>
                  <a:srgbClr val="000000"/>
                </a:solidFill>
                <a:latin typeface="Arial"/>
              </a:rPr>
              <a: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rge corporations will receive thousands of sponsorship proposals a year.</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Marketing approach</a:t>
            </a:r>
            <a:r>
              <a:rPr b="0" lang="en-US" sz="2300" spc="-1" strike="noStrike">
                <a:solidFill>
                  <a:srgbClr val="000000"/>
                </a:solidFill>
                <a:latin typeface="Arial"/>
              </a:rPr>
              <a:t> to solicit sponsors; proposals must be tailored to the needs of the busines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ey to identify what a company is </a:t>
            </a:r>
            <a:r>
              <a:rPr b="0" lang="en-US" sz="2300" spc="-1" strike="noStrike" u="sng">
                <a:solidFill>
                  <a:srgbClr val="000000"/>
                </a:solidFill>
                <a:uFillTx/>
                <a:latin typeface="Arial"/>
              </a:rPr>
              <a:t>willing to pay</a:t>
            </a:r>
            <a:r>
              <a:rPr b="0" lang="en-US" sz="2300" spc="-1" strike="noStrike">
                <a:solidFill>
                  <a:srgbClr val="000000"/>
                </a:solidFill>
                <a:latin typeface="Arial"/>
              </a:rPr>
              <a:t>, and what they will </a:t>
            </a:r>
            <a:r>
              <a:rPr b="0" lang="en-US" sz="2300" spc="-1" strike="noStrike" u="sng">
                <a:solidFill>
                  <a:srgbClr val="000000"/>
                </a:solidFill>
                <a:uFillTx/>
                <a:latin typeface="Arial"/>
              </a:rPr>
              <a:t>want in return</a:t>
            </a:r>
            <a:r>
              <a:rPr b="0" lang="en-US" sz="2300" spc="-1" strike="noStrike">
                <a:solidFill>
                  <a:srgbClr val="000000"/>
                </a:solidFill>
                <a:latin typeface="Arial"/>
              </a:rPr>
              <a:t> for investing as a sponsor.</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5252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6" name="PlaceHolder 2"/>
          <p:cNvSpPr>
            <a:spLocks noGrp="1"/>
          </p:cNvSpPr>
          <p:nvPr>
            <p:ph/>
          </p:nvPr>
        </p:nvSpPr>
        <p:spPr>
          <a:xfrm>
            <a:off x="914400" y="1599840"/>
            <a:ext cx="82296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e of licensed sport merchandis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re fans buy, the more revenu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nue comes from Royalty Fees</a:t>
            </a:r>
            <a:endParaRPr b="0" lang="en-US" sz="26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id by the manufacturer for the right to sell merchandise with a team name or logo</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 of the wholesale price</a:t>
            </a:r>
            <a:r>
              <a:rPr b="0" lang="en-US" sz="2300" spc="-1" strike="noStrike">
                <a:solidFill>
                  <a:srgbClr val="000000"/>
                </a:solidFill>
                <a:latin typeface="Arial"/>
              </a:rPr>
              <a:t> of the product</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ndard royalty fee is </a:t>
            </a:r>
            <a:r>
              <a:rPr b="0" lang="en-US" sz="2300" spc="-1" strike="noStrike" u="sng">
                <a:solidFill>
                  <a:srgbClr val="000000"/>
                </a:solidFill>
                <a:uFillTx/>
                <a:latin typeface="Arial"/>
              </a:rPr>
              <a:t>8.5%</a:t>
            </a:r>
            <a:r>
              <a:rPr b="0" lang="en-US" sz="2300" spc="-1" strike="noStrike">
                <a:solidFill>
                  <a:srgbClr val="000000"/>
                </a:solidFill>
                <a:latin typeface="Arial"/>
              </a:rPr>
              <a:t> for the 4 professional leagues.</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each league, royalty fee proceeds are </a:t>
            </a:r>
            <a:r>
              <a:rPr b="0" lang="en-US" sz="2300" spc="-1" strike="noStrike" u="sng">
                <a:solidFill>
                  <a:srgbClr val="000000"/>
                </a:solidFill>
                <a:uFillTx/>
                <a:latin typeface="Arial"/>
              </a:rPr>
              <a:t>pooled</a:t>
            </a:r>
            <a:r>
              <a:rPr b="0" lang="en-US" sz="2300" spc="-1" strike="noStrike">
                <a:solidFill>
                  <a:srgbClr val="000000"/>
                </a:solidFill>
                <a:latin typeface="Arial"/>
              </a:rPr>
              <a:t> and </a:t>
            </a:r>
            <a:r>
              <a:rPr b="0" lang="en-US" sz="2300" spc="-1" strike="noStrike" u="sng">
                <a:solidFill>
                  <a:srgbClr val="000000"/>
                </a:solidFill>
                <a:uFillTx/>
                <a:latin typeface="Arial"/>
              </a:rPr>
              <a:t>divided equally</a:t>
            </a:r>
            <a:r>
              <a:rPr b="0" lang="en-US" sz="2300" spc="-1" strike="noStrike">
                <a:solidFill>
                  <a:srgbClr val="000000"/>
                </a:solidFill>
                <a:latin typeface="Arial"/>
              </a:rPr>
              <a:t> among all teams in the leag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used in minor leagues and at the college level</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yet used with amateur and high school sport program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eat way to protect and promote a team name and logo while generating substantial revenu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a:t>
            </a:r>
            <a:endParaRPr b="0" lang="en-US" sz="42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rt entities are facing a </a:t>
            </a:r>
            <a:r>
              <a:rPr b="0" lang="en-US" sz="2800" spc="-1" strike="noStrike" u="sng">
                <a:solidFill>
                  <a:srgbClr val="000000"/>
                </a:solidFill>
                <a:uFillTx/>
                <a:latin typeface="Arial"/>
              </a:rPr>
              <a:t>Double Whammy</a:t>
            </a:r>
            <a:r>
              <a:rPr b="0" lang="en-US" sz="2800" spc="-1" strike="noStrike">
                <a:solidFill>
                  <a:srgbClr val="000000"/>
                </a:solidFill>
                <a:latin typeface="Arial"/>
              </a:rPr>
              <a:t>; stable/declining revenue resulting from increased competition, and increasing cos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revenue sources, like ticket sales and concessions are not enough to maintain profi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intain profits, successful sport managers will continue to create and expand opportunities for their organizations to secure new sources of reven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Professional</a:t>
            </a:r>
            <a:endParaRPr b="0" lang="en-US" sz="4200" spc="-1" strike="noStrike">
              <a:solidFill>
                <a:srgbClr val="330033"/>
              </a:solidFill>
              <a:latin typeface="Times New Roman"/>
            </a:endParaRPr>
          </a:p>
        </p:txBody>
      </p:sp>
      <p:sp>
        <p:nvSpPr>
          <p:cNvPr id="110" name="PlaceHolder 2"/>
          <p:cNvSpPr>
            <a:spLocks noGrp="1"/>
          </p:cNvSpPr>
          <p:nvPr>
            <p:ph/>
          </p:nvPr>
        </p:nvSpPr>
        <p:spPr>
          <a:xfrm>
            <a:off x="2361960" y="2133720"/>
            <a:ext cx="5638680" cy="39211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of financing new venu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er Sal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College</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aches Salar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ition Costs (for athletic scholarship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X Complianc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ute aimed at eliminating </a:t>
            </a:r>
            <a:r>
              <a:rPr b="0" lang="en-US" sz="2600" spc="-1" strike="noStrike" u="sng">
                <a:solidFill>
                  <a:srgbClr val="000000"/>
                </a:solidFill>
                <a:uFillTx/>
                <a:latin typeface="Arial"/>
              </a:rPr>
              <a:t>gender discrimination</a:t>
            </a:r>
            <a:r>
              <a:rPr b="0" lang="en-US" sz="2600" spc="-1" strike="noStrike">
                <a:solidFill>
                  <a:srgbClr val="000000"/>
                </a:solidFill>
                <a:latin typeface="Arial"/>
              </a:rPr>
              <a:t> in educational institutions that receive </a:t>
            </a:r>
            <a:r>
              <a:rPr b="0" lang="en-US" sz="2600" spc="-1" strike="noStrike" u="sng">
                <a:solidFill>
                  <a:srgbClr val="000000"/>
                </a:solidFill>
                <a:uFillTx/>
                <a:latin typeface="Arial"/>
              </a:rPr>
              <a:t>federal funding</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High School</a:t>
            </a:r>
            <a:endParaRPr b="0" lang="en-US" sz="4200" spc="-1" strike="noStrike">
              <a:solidFill>
                <a:srgbClr val="330033"/>
              </a:solidFill>
              <a:latin typeface="Times New Roman"/>
            </a:endParaRPr>
          </a:p>
        </p:txBody>
      </p:sp>
      <p:sp>
        <p:nvSpPr>
          <p:cNvPr id="114" name="PlaceHolder 2"/>
          <p:cNvSpPr>
            <a:spLocks noGrp="1"/>
          </p:cNvSpPr>
          <p:nvPr>
            <p:ph/>
          </p:nvPr>
        </p:nvSpPr>
        <p:spPr>
          <a:xfrm>
            <a:off x="2362320" y="2286000"/>
            <a:ext cx="4876560" cy="3844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X Compli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able/Declining Revenue</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While rising costs are a concern, sport managers also face declining revenue as a result of increased competition.</a:t>
            </a: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n Support </a:t>
            </a:r>
            <a:endParaRPr b="0" lang="en-US" sz="2400" spc="-1" strike="noStrike">
              <a:solidFill>
                <a:srgbClr val="000000"/>
              </a:solidFill>
              <a:latin typeface="Arial"/>
            </a:endParaRPr>
          </a:p>
          <a:p>
            <a:pPr lvl="2" marL="1352520" indent="-43812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etition for fans is intense.  With more variety of sporting options, consumers have never had so many options for spending their entertainment dollars.</a:t>
            </a:r>
            <a:endParaRPr b="0" lang="en-US" sz="21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Sponsorship</a:t>
            </a:r>
            <a:endParaRPr b="0" lang="en-US" sz="2400" spc="-1" strike="noStrike">
              <a:solidFill>
                <a:srgbClr val="000000"/>
              </a:solidFill>
              <a:latin typeface="Arial"/>
            </a:endParaRPr>
          </a:p>
          <a:p>
            <a:pPr lvl="2" marL="1352520" indent="-43812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etition for sponsorship dollars is intense.  Corporations have limited sponsorship budgets, and an increasing number of sporting options for spending 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2775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dressing the Double Whammy…</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87692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Double Whammy!</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Increasing costs coupled with stable/declining revenue!</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How are sport managers handling it?</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chool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oster Clubs; Participation Fees; Soliciting Corporate Sponsors (like PHS and Coca Cola)</a:t>
            </a:r>
            <a:endParaRPr b="0" lang="en-US" sz="21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Support; Soliciting Corporate Sponsors</a:t>
            </a:r>
            <a:endParaRPr b="0" lang="en-US" sz="21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ccessful sport managers recognize that future financial success will depend on their ability to aggressively </a:t>
            </a:r>
            <a:r>
              <a:rPr b="0" lang="en-US" sz="2100" spc="-1" strike="noStrike" u="sng">
                <a:solidFill>
                  <a:srgbClr val="000000"/>
                </a:solidFill>
                <a:uFillTx/>
                <a:latin typeface="Arial"/>
              </a:rPr>
              <a:t>secure new sources of revenue</a:t>
            </a:r>
            <a:r>
              <a:rPr b="0" lang="en-U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These income generating options have provided the financial foundation for sport organizations for many decade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52520" indent="-438120">
              <a:spcBef>
                <a:spcPts val="700"/>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a:t>
            </a:r>
            <a:endParaRPr b="0" lang="en-US" sz="2800" spc="-1" strike="noStrike">
              <a:solidFill>
                <a:srgbClr val="000000"/>
              </a:solidFill>
              <a:latin typeface="Arial"/>
            </a:endParaRPr>
          </a:p>
          <a:p>
            <a:pPr lvl="2" marL="1352520" indent="-438120">
              <a:spcBef>
                <a:spcPts val="700"/>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lang="en-US" sz="2600" spc="-1" strike="noStrike" u="sng">
                <a:solidFill>
                  <a:srgbClr val="000000"/>
                </a:solidFill>
                <a:uFillTx/>
                <a:latin typeface="Arial"/>
              </a:rPr>
              <a:t>most prominent revenue source</a:t>
            </a:r>
            <a:r>
              <a:rPr b="0" lang="en-US" sz="2600" spc="-1" strike="noStrike">
                <a:solidFill>
                  <a:srgbClr val="000000"/>
                </a:solidFill>
                <a:latin typeface="Arial"/>
              </a:rPr>
              <a:t> for professional sport franchises (except NFL)</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nue is based upon two factors:</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umber of tickets sold</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ce of each ticket</a:t>
            </a:r>
            <a:endParaRPr b="0" lang="en-US" sz="23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ms have increased prices over the years to increase profit.</a:t>
            </a:r>
            <a:endParaRPr b="0" lang="en-US" sz="26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02:30:38Z</dcterms:created>
  <dc:creator>HP Authorized Customer</dc:creator>
  <dc:description/>
  <dc:language>en-US</dc:language>
  <cp:lastModifiedBy>Parkland School District</cp:lastModifiedBy>
  <cp:lastPrinted>2007-10-02T12:03:35Z</cp:lastPrinted>
  <dcterms:modified xsi:type="dcterms:W3CDTF">2008-11-05T17:30:56Z</dcterms:modified>
  <cp:revision>80</cp:revision>
  <dc:subject/>
  <dc:title>Sport Management</dc:title>
</cp:coreProperties>
</file>