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31.jpeg" ContentType="image/jpeg"/>
  <Override PartName="/ppt/media/image11.wmf" ContentType="image/x-wmf"/>
  <Override PartName="/ppt/media/image26.png" ContentType="image/png"/>
  <Override PartName="/ppt/media/image25.png" ContentType="image/png"/>
  <Override PartName="/ppt/media/image32.gif" ContentType="image/gif"/>
  <Override PartName="/ppt/media/image7.wmf" ContentType="image/x-wmf"/>
  <Override PartName="/ppt/media/image30.jpeg" ContentType="image/jpeg"/>
  <Override PartName="/ppt/media/image35.jpeg" ContentType="image/jpeg"/>
  <Override PartName="/ppt/media/image8.jpeg" ContentType="image/jpeg"/>
  <Override PartName="/ppt/media/image37.jpeg" ContentType="image/jpeg"/>
  <Override PartName="/ppt/media/image6.wmf" ContentType="image/x-wmf"/>
  <Override PartName="/ppt/media/image5.gif" ContentType="image/gif"/>
  <Override PartName="/ppt/media/image16.wmf" ContentType="image/x-wmf"/>
  <Override PartName="/ppt/media/image28.gif" ContentType="image/gif"/>
  <Override PartName="/ppt/media/image34.wmf" ContentType="image/x-wmf"/>
  <Override PartName="/ppt/media/image4.wmf" ContentType="image/x-wmf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8C3EBC-9545-4EA5-ABB0-984A76ADC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FAB316-27CE-4447-9865-C313BB31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99E139-CE55-4AA9-A182-4A82A752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79A2-6966-478E-AC27-A4CACD50D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8627-8113-482B-BF2B-F232A8A03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B1B3-15D1-45D8-B2EE-D55BB424A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5BA0-A24E-4FA5-8B15-236B0FA78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B9CF-C659-40D3-96B5-AB45FD5AF8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2C79-AEE0-40F5-8081-E971275D1E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62F3-6822-4384-B390-EF58FB67EB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71230-16B3-4594-97CE-642DDD7202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45B33-94F3-48A4-95D3-759D290CE0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967BE-D374-4B7A-81BA-D70CA12BA6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B40A-432A-40F0-A45D-598D60738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E8A8-FBD8-4309-9586-7A63B49B0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24FD7-E964-4D62-9EE6-5AED7221D8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FBC07-B1AE-4C4D-8146-78A95D93D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3C39B-EA0F-4701-B0B6-848D299183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62899-84A5-4649-A425-CFB02BBE52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9181B-C2AE-4737-A7A5-8AAB5B215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E581-1C71-4C14-A41F-47B20F81B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4763-169F-488F-9049-1B28CB67C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BD5C-86EA-467C-8B65-F1A13802C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EF1C-DAAC-4D24-BD45-1F91DB5E7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6DF1-72D7-4D3E-AC39-E042E1D7B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14AC-6A64-4DC7-8742-468D06675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CB02-D480-415E-98F1-FCC79E2F4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570082F-C345-4685-93E5-51440A3D17A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6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74D9CFF-BD22-4DBA-B57A-EBD198EC1BC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nsus.gov/indicator/www/ustrad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siness in the Global Economy</a:t>
            </a:r>
            <a:endParaRPr b="1" lang="en-US" sz="4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The Global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49C32A0-F078-48A8-8D8D-59D0ED31BC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U.S. TRADE BALANC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0" name="Picture 1029" descr=""/>
          <p:cNvPicPr/>
          <p:nvPr/>
        </p:nvPicPr>
        <p:blipFill>
          <a:blip r:embed="rId1"/>
          <a:srcRect l="0" t="6575" r="0" b="0"/>
          <a:stretch/>
        </p:blipFill>
        <p:spPr>
          <a:xfrm>
            <a:off x="2028960" y="1676520"/>
            <a:ext cx="5086080" cy="433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C056916-2557-4313-9582-888040BEDC4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BALANCE OF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243160" y="2195640"/>
            <a:ext cx="465768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217A65-B0F7-4861-B2EF-709C37DCAC2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balance of trade differ from balance of pay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5453103-2862-4387-B77D-F5A377167F3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CURRENC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currency in one country compared with that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factors affecting currenc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ome countries with less-than-stable govts.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EDEEA3-F01A-47A4-9221-A0066786F65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RECENT VALUES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OF CURRENC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0" t="7275" r="0" b="1821"/>
          <a:stretch/>
        </p:blipFill>
        <p:spPr>
          <a:xfrm>
            <a:off x="681120" y="2133720"/>
            <a:ext cx="77817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675A3C3-0203-4040-8C6E-B756C8B2953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affect the value of a country’s curr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0BB5FA5-A272-4A1B-9DFF-2299886607A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Global Marketpla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mponents of the international busines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examples of formal trade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to encourage international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7CFECB4-8CA0-4E91-B350-C77368B39E5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INTERNATIONAL BUSINESS ENVIRO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c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leg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C:\Documents and Settings\30800\Local Settings\Temporary Internet Files\Content.IE5\I4A0DTRU\MC900056246[1].wmf"/>
          <p:cNvPicPr/>
          <p:nvPr/>
        </p:nvPicPr>
        <p:blipFill>
          <a:blip r:embed="rId1"/>
          <a:stretch/>
        </p:blipFill>
        <p:spPr>
          <a:xfrm>
            <a:off x="5562720" y="1981080"/>
            <a:ext cx="1728720" cy="127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Documents and Settings\30800\Local Settings\Temporary Internet Files\Content.IE5\OLEBDURU\MP900444173[1].jpg"/>
          <p:cNvPicPr/>
          <p:nvPr/>
        </p:nvPicPr>
        <p:blipFill>
          <a:blip r:embed="rId2"/>
          <a:stretch/>
        </p:blipFill>
        <p:spPr>
          <a:xfrm>
            <a:off x="6000840" y="3581280"/>
            <a:ext cx="258120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1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51B4976-27BD-4FFA-807A-C3D27483A4A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144440" y="152280"/>
            <a:ext cx="3198960" cy="23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00600" y="152280"/>
            <a:ext cx="3198960" cy="23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144440" y="3276720"/>
            <a:ext cx="3198960" cy="274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7ac1"/>
            </a:solidFill>
            <a:miter/>
          </a:ln>
          <a:effectLst>
            <a:outerShdw dist="17819" dir="2700000" blurRad="0" rotWithShape="0">
              <a:srgbClr val="0049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800600" y="3276720"/>
            <a:ext cx="3198960" cy="2741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5c400"/>
            </a:solidFill>
            <a:miter/>
          </a:ln>
          <a:effectLst>
            <a:outerShdw dist="17819" dir="2700000" blurRad="0" rotWithShape="0">
              <a:srgbClr val="9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AL–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2673360"/>
            <a:ext cx="8229600" cy="459720"/>
          </a:xfrm>
          <a:prstGeom prst="rect">
            <a:avLst/>
          </a:prstGeom>
          <a:solidFill>
            <a:srgbClr val="e0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TERNATIONAL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CACAA60-98DD-4CC7-B12D-022E462E6CD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place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tions transportation, communication and utilit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 waterways, RR, Interstate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, electric, sewer, 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Documents and Settings\30800\Local Settings\Temporary Internet Files\Content.IE5\CRSJFY9F\MM900283503[1].gif"/>
          <p:cNvPicPr/>
          <p:nvPr/>
        </p:nvPicPr>
        <p:blipFill>
          <a:blip r:embed="rId1"/>
          <a:stretch/>
        </p:blipFill>
        <p:spPr>
          <a:xfrm>
            <a:off x="6934320" y="3962520"/>
            <a:ext cx="1552320" cy="1508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Documents and Settings\30800\Local Settings\Temporary Internet Files\Content.IE5\XAST5BE9\MP900402792[1].jpg"/>
          <p:cNvPicPr/>
          <p:nvPr/>
        </p:nvPicPr>
        <p:blipFill>
          <a:blip r:embed="rId2"/>
          <a:stretch/>
        </p:blipFill>
        <p:spPr>
          <a:xfrm>
            <a:off x="7647120" y="1305000"/>
            <a:ext cx="167940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E1EB674-70A4-480E-9242-8F02CDDAACE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1</a:t>
            </a:r>
            <a:br>
              <a:rPr sz="2400"/>
            </a:b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International Business Basics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mporting and export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balance of trade and balance of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factors that affect the value of global curr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0E75E03-BE2A-4D77-B266-3C5EA27EA22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barrier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to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on imports 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limit expor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x on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import or export of a specific product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:\Documents and Settings\30800\Local Settings\Temporary Internet Files\Content.IE5\GP8LJUVI\MP900289255[1].jpg"/>
          <p:cNvPicPr/>
          <p:nvPr/>
        </p:nvPicPr>
        <p:blipFill>
          <a:blip r:embed="rId1"/>
          <a:stretch/>
        </p:blipFill>
        <p:spPr>
          <a:xfrm>
            <a:off x="5943600" y="1600200"/>
            <a:ext cx="274968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F514A44-F84A-4679-831A-C2982C6481D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QUOTA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supply low and price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ress displeasure at the policies of the importing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one of a country’s industries from too much competition form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30800\Local Settings\Temporary Internet Files\Content.IE5\XAST5BE9\MP900387513[1].jpg"/>
          <p:cNvPicPr/>
          <p:nvPr/>
        </p:nvPicPr>
        <p:blipFill>
          <a:blip r:embed="rId1"/>
          <a:stretch/>
        </p:blipFill>
        <p:spPr>
          <a:xfrm>
            <a:off x="5638680" y="228600"/>
            <a:ext cx="2576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B0C900E-B37B-4197-85A8-8578065F7CF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ARIFF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tar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mount per pound, gallon, or oth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value of a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30800\Local Settings\Temporary Internet Files\Content.IE5\GP8LJUVI\MM900395692[1].gif"/>
          <p:cNvPicPr/>
          <p:nvPr/>
        </p:nvPicPr>
        <p:blipFill>
          <a:blip r:embed="rId1"/>
          <a:stretch/>
        </p:blipFill>
        <p:spPr>
          <a:xfrm>
            <a:off x="62485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2AFD46-0237-4EC0-878F-375639E105C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MBARGO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embar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a country’s industries from international competition more than the quota or tariff will ach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sensitive products from falling into the hands of unfriendly groups o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Documents and Settings\30800\Local Settings\Temporary Internet Files\Content.IE5\I4A0DTRU\MC900233644[1].wmf"/>
          <p:cNvPicPr/>
          <p:nvPr/>
        </p:nvPicPr>
        <p:blipFill>
          <a:blip r:embed="rId1"/>
          <a:stretch/>
        </p:blipFill>
        <p:spPr>
          <a:xfrm>
            <a:off x="7086600" y="380880"/>
            <a:ext cx="1727280" cy="225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F079F4E-EA25-4486-9E94-6B82E3700B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COURAGING INTERNATIONAL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where products can be imported duty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ored, assembl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ed when it leaves th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untries remove duties and barriers on products traded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n Free Trade Agreement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—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A—Latin America Integratio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8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C:\Documents and Settings\30800\Local Settings\Temporary Internet Files\Content.IE5\CRSJFY9F\MC900383686[1].wmf"/>
          <p:cNvPicPr/>
          <p:nvPr/>
        </p:nvPicPr>
        <p:blipFill>
          <a:blip r:embed="rId1"/>
          <a:stretch/>
        </p:blipFill>
        <p:spPr>
          <a:xfrm>
            <a:off x="7391520" y="1641600"/>
            <a:ext cx="156672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F0EBD61-F1D4-4220-BA60-AF9BA18989B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MMON MARKE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invest freely in each member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workers to move freely across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Union (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n Integration Association (LA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C:\Documents and Settings\30800\Local Settings\Temporary Internet Files\Content.IE5\OLEBDURU\MP900425463[1].jpg"/>
          <p:cNvPicPr/>
          <p:nvPr/>
        </p:nvPicPr>
        <p:blipFill>
          <a:blip r:embed="rId1"/>
          <a:stretch/>
        </p:blipFill>
        <p:spPr>
          <a:xfrm>
            <a:off x="6477120" y="-228600"/>
            <a:ext cx="3504960" cy="233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A26BD80-43F7-468B-AD1B-A94EE1F68B3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ons could be taken to encourage international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C9D8875-C922-4DA1-8996-CB9820A5680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Business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ctivities of multinational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common international business entry m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ctivities of international trade organizations and a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19161B0-9EC9-43C3-AF95-93E5587B99C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 company (M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usiness in severa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92A756-BEC8-4B1B-956C-8BCEF6446E4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ULTINATIONAL COMPANIES (MNC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0520" indent="-380520">
              <a:spcBef>
                <a:spcPts val="9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C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rategie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untry handled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coca-cola-logo"/>
          <p:cNvPicPr/>
          <p:nvPr/>
        </p:nvPicPr>
        <p:blipFill>
          <a:blip r:embed="rId1"/>
          <a:stretch/>
        </p:blipFill>
        <p:spPr>
          <a:xfrm>
            <a:off x="6553080" y="1523880"/>
            <a:ext cx="2428920" cy="723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arch"/>
          <p:cNvPicPr/>
          <p:nvPr/>
        </p:nvPicPr>
        <p:blipFill>
          <a:blip r:embed="rId2"/>
          <a:stretch/>
        </p:blipFill>
        <p:spPr>
          <a:xfrm>
            <a:off x="380880" y="4952880"/>
            <a:ext cx="11430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Line 12"/>
          <p:cNvSpPr/>
          <p:nvPr/>
        </p:nvSpPr>
        <p:spPr>
          <a:xfrm flipH="1">
            <a:off x="1219320" y="4114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2895480" y="2057400"/>
            <a:ext cx="3810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1386E1C-2950-4D12-91F0-B802CF02FB3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, buying &amp; selling G&amp;S with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usiness AKA (foreign or worl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needed for creating, shipping &amp; selling G &amp; 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C249A3-1253-46C5-9391-5082C1FFAF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NC BENEFI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 of good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p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understanding, communication, and resp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 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535FA65-4EB4-4481-865E-9446DD2BF47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DRAWBACKS OF MULTINATIONAL COMPANIE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 dependence on the M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16DDE78-CF9D-4B80-8978-E31E1EA3334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strategies commonly used by multinational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2935557-5E14-4EAC-8B9E-BA226F956E0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TRY MOD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h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DA5A7EA-8B3B-4B8E-A89A-CA9993AEB1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ICEN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produce items in other countries without being activel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low financial investment, so the potential financial return for the company is often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 for the company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65E6FD2-2F8D-4E88-BAE0-5F3621DB70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RANCHI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rganizations to enter into contracts with people in other countries to set up a business that looks and runs like the parent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elements, such as food products, packaging, and advertising must meet both cultural sensitivities and leg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involves selling a product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E6B082-10C9-4CE9-BFD1-729BF9CACD1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JOINT VENTUR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wo or more companies to share raw materials, shipping facilities, management activities, or produc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s include the sharing of profits and not as much control since several companies ar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opular for manufacturing, such as Japanese and U.S. automobile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1FF3708-7791-4A8C-AE9D-2D191A67732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licensing differ from a franch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7593C2-F970-463A-B027-C3DD973F07E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Trad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1100DE8-B9A1-4F33-A278-069B960D043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TRADE ORGANIZATION (WTO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TO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ariffs that discourage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import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barriers for banks, insurance companies, and other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ng poor countries with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E5CD883-65B3-4C37-B122-29A6F40168A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RADING AMONG N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can produce a G or S at a lower cost tha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ffee—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—Saudi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specializes in the production of a G or S which it is relatively mor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D/cereal problem we di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4586BF0-2ADA-482B-B892-0262B42EFE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MONETARY FUND (IMF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promote economic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an orderly system of world trade and exchang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over 150 membe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74E2A7D-165E-42EB-863C-48F239B5DCF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BANK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in 1944 to provide loans for rebuilding after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the World Bank has over 180 member countries and two main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Development Association (IDA), which makes loans to help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Finance Corporation (IFC), which provides technical capital and technical help to private businesses in nations with limi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4E46AC3-FD58-4B42-9FBF-00F7AB26C3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International Monetary Fund assist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6AA47A-AC77-4A2A-A849-5FCE441BC1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16" name="Picture 13" descr="j0215939"/>
          <p:cNvPicPr/>
          <p:nvPr/>
        </p:nvPicPr>
        <p:blipFill>
          <a:blip r:embed="rId1"/>
          <a:stretch/>
        </p:blipFill>
        <p:spPr>
          <a:xfrm>
            <a:off x="2362320" y="2590920"/>
            <a:ext cx="147456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15358"/>
          <p:cNvPicPr/>
          <p:nvPr/>
        </p:nvPicPr>
        <p:blipFill>
          <a:blip r:embed="rId2"/>
          <a:stretch/>
        </p:blipFill>
        <p:spPr>
          <a:xfrm>
            <a:off x="7086600" y="1981080"/>
            <a:ext cx="13460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j0234733"/>
          <p:cNvPicPr/>
          <p:nvPr/>
        </p:nvPicPr>
        <p:blipFill>
          <a:blip r:embed="rId3"/>
          <a:stretch/>
        </p:blipFill>
        <p:spPr>
          <a:xfrm>
            <a:off x="1905120" y="45720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total supply of the following items are impo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j0232444"/>
          <p:cNvPicPr/>
          <p:nvPr/>
        </p:nvPicPr>
        <p:blipFill>
          <a:blip r:embed="rId4"/>
          <a:stretch/>
        </p:blipFill>
        <p:spPr>
          <a:xfrm>
            <a:off x="3809880" y="3809880"/>
            <a:ext cx="1758960" cy="186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j0182914"/>
          <p:cNvPicPr/>
          <p:nvPr/>
        </p:nvPicPr>
        <p:blipFill>
          <a:blip r:embed="rId5"/>
          <a:stretch/>
        </p:blipFill>
        <p:spPr>
          <a:xfrm>
            <a:off x="380880" y="2971800"/>
            <a:ext cx="1665360" cy="181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MPPH03079I0000[1]"/>
          <p:cNvPicPr/>
          <p:nvPr/>
        </p:nvPicPr>
        <p:blipFill>
          <a:blip r:embed="rId6"/>
          <a:stretch/>
        </p:blipFill>
        <p:spPr>
          <a:xfrm>
            <a:off x="5410080" y="2590920"/>
            <a:ext cx="126684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281682"/>
          <p:cNvPicPr/>
          <p:nvPr/>
        </p:nvPicPr>
        <p:blipFill>
          <a:blip r:embed="rId7"/>
          <a:stretch/>
        </p:blipFill>
        <p:spPr>
          <a:xfrm>
            <a:off x="6705720" y="4038480"/>
            <a:ext cx="1893600" cy="161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1CB42E6-1D71-4198-B84C-AB08567A78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27" name="Picture 15" descr="j0278862"/>
          <p:cNvPicPr/>
          <p:nvPr/>
        </p:nvPicPr>
        <p:blipFill>
          <a:blip r:embed="rId1"/>
          <a:stretch/>
        </p:blipFill>
        <p:spPr>
          <a:xfrm>
            <a:off x="1295280" y="312408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import half of our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j0233364"/>
          <p:cNvPicPr/>
          <p:nvPr/>
        </p:nvPicPr>
        <p:blipFill>
          <a:blip r:embed="rId2"/>
          <a:stretch/>
        </p:blipFill>
        <p:spPr>
          <a:xfrm>
            <a:off x="4572000" y="3129120"/>
            <a:ext cx="310212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265AAAA-6D7D-4475-9448-525EDC7EB93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33" name="Picture 15" descr="j0215927"/>
          <p:cNvPicPr/>
          <p:nvPr/>
        </p:nvPicPr>
        <p:blipFill>
          <a:blip r:embed="rId1"/>
          <a:stretch/>
        </p:blipFill>
        <p:spPr>
          <a:xfrm>
            <a:off x="914400" y="2590920"/>
            <a:ext cx="31561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MPj02896290000[1]"/>
          <p:cNvPicPr/>
          <p:nvPr/>
        </p:nvPicPr>
        <p:blipFill>
          <a:blip r:embed="rId2"/>
          <a:stretch/>
        </p:blipFill>
        <p:spPr>
          <a:xfrm>
            <a:off x="5916600" y="1981080"/>
            <a:ext cx="12733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j0215348"/>
          <p:cNvPicPr/>
          <p:nvPr/>
        </p:nvPicPr>
        <p:blipFill>
          <a:blip r:embed="rId3"/>
          <a:stretch/>
        </p:blipFill>
        <p:spPr>
          <a:xfrm>
            <a:off x="1914480" y="4159080"/>
            <a:ext cx="1352520" cy="1662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, 20 – 50 % or our total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4" descr="j0232628"/>
          <p:cNvPicPr/>
          <p:nvPr/>
        </p:nvPicPr>
        <p:blipFill>
          <a:blip r:embed="rId4"/>
          <a:stretch/>
        </p:blipFill>
        <p:spPr>
          <a:xfrm>
            <a:off x="6553080" y="3733920"/>
            <a:ext cx="1951200" cy="190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j0199312"/>
          <p:cNvPicPr/>
          <p:nvPr/>
        </p:nvPicPr>
        <p:blipFill>
          <a:blip r:embed="rId5"/>
          <a:stretch/>
        </p:blipFill>
        <p:spPr>
          <a:xfrm>
            <a:off x="4191120" y="3733920"/>
            <a:ext cx="1726920" cy="201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509F7F4-7359-4C09-B0AD-719D12C5BAA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42" name="Picture 1028" descr=""/>
          <p:cNvPicPr/>
          <p:nvPr/>
        </p:nvPicPr>
        <p:blipFill>
          <a:blip r:embed="rId1"/>
          <a:stretch/>
        </p:blipFill>
        <p:spPr>
          <a:xfrm>
            <a:off x="714240" y="1752480"/>
            <a:ext cx="771552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258BBA8-01F2-4D00-A8B9-623767E758E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MEASURING TRADE RELATION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amount of money that comes in and leaves a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(favorable)/ Negative (unfavo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a country’s total imports &amp;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Trade deficit/Trade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15Z</dcterms:created>
  <dc:creator>M. C. McLaughlin</dc:creator>
  <dc:description/>
  <dc:language>en-US</dc:language>
  <cp:lastModifiedBy>test</cp:lastModifiedBy>
  <cp:lastPrinted>2006-10-04T12:01:19Z</cp:lastPrinted>
  <dcterms:modified xsi:type="dcterms:W3CDTF">2012-11-12T14:40:26Z</dcterms:modified>
  <cp:revision>19</cp:revision>
  <dc:subject/>
  <dc:title>Chapter 3 Business in the Global Economy</dc:title>
</cp:coreProperties>
</file>