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27.png" ContentType="image/png"/>
  <Override PartName="/ppt/media/image12.wmf" ContentType="image/x-wmf"/>
  <Override PartName="/ppt/media/image9.wmf" ContentType="image/x-wmf"/>
  <Override PartName="/ppt/media/image2.png" ContentType="image/png"/>
  <Override PartName="/ppt/media/image10.wmf" ContentType="image/x-wmf"/>
  <Override PartName="/ppt/media/image31.jpeg" ContentType="image/jpeg"/>
  <Override PartName="/ppt/media/image11.wmf" ContentType="image/x-wmf"/>
  <Override PartName="/ppt/media/image26.png" ContentType="image/png"/>
  <Override PartName="/ppt/media/image25.png" ContentType="image/png"/>
  <Override PartName="/ppt/media/image32.gif" ContentType="image/gif"/>
  <Override PartName="/ppt/media/image7.wmf" ContentType="image/x-wmf"/>
  <Override PartName="/ppt/media/image30.jpeg" ContentType="image/jpeg"/>
  <Override PartName="/ppt/media/image35.jpeg" ContentType="image/jpeg"/>
  <Override PartName="/ppt/media/image8.jpeg" ContentType="image/jpeg"/>
  <Override PartName="/ppt/media/image37.jpeg" ContentType="image/jpeg"/>
  <Override PartName="/ppt/media/image6.wmf" ContentType="image/x-wmf"/>
  <Override PartName="/ppt/media/image5.gif" ContentType="image/gif"/>
  <Override PartName="/ppt/media/image16.wmf" ContentType="image/x-wmf"/>
  <Override PartName="/ppt/media/image28.gif" ContentType="image/gif"/>
  <Override PartName="/ppt/media/image34.wmf" ContentType="image/x-wmf"/>
  <Override PartName="/ppt/media/image4.wmf" ContentType="image/x-wmf"/>
  <Override PartName="/ppt/media/image13.jpeg" ContentType="image/jpeg"/>
  <Override PartName="/ppt/media/image29.jpeg" ContentType="image/jpeg"/>
  <Override PartName="/ppt/media/image33.wmf" ContentType="image/x-wmf"/>
  <Override PartName="/ppt/media/image3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F6ED97-6653-428A-99AD-2058F3C50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6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7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EA17F3-2191-43D2-BF79-5B68102AB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F424B5-9A27-49C5-8AD8-D3C3B41AA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4EC6A-3BA4-466D-B410-E38C33EB0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CA987-863E-4F54-AA79-4C9B7A708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F1E2B-0D8D-4BB6-821C-03CEF6E30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E80D3-207E-45E6-867C-B01FBBD72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CCE7C-D31B-49AB-A530-A2F79B2E3E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00EA5-C2B7-417B-B106-2433DE2CF3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7394C-4600-47A5-BC63-A8D352384E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49825-F689-4214-9FE9-0F6B350766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64B94-37F9-4711-A832-6824C520DC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4C09A-B152-43A6-8C7F-06856B328E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83C41-BFCE-4E9E-B16C-CE55E904D2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C5AC1-9B1E-4A40-AB3E-2AFD95A7E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68470-FA53-4AC5-B2FA-81AEE66CCA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43F24-DC9F-4029-999A-C9D503F35E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D8685-ED10-430E-8A11-7FA39F2369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DD596-6296-4831-8A6C-A85A93BA49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655D8-C218-4F56-A88B-AFC665E4E7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C27B9-6A23-4DE4-9567-EF1F96D20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D6008-E71B-4B67-9138-F285D2837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9488D-1BA4-4AB1-8B7E-5C2043BC4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84B1-4707-47E1-ABED-D3BE4C32B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7DC9-8277-4129-8BCC-94A33E504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25BF6-C6A2-4560-8BEE-0DD4BB1C8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B6549-2330-40B9-B08D-B8BD08E6D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1356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8200" indent="-2923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6D33921-F696-46A6-802A-53B15F593B0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5967360" y="613728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400"/>
                </a:solidFill>
                <a:latin typeface="Arial"/>
              </a:rPr>
              <a:t>Introduction to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 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26"/>
          <p:cNvSpPr/>
          <p:nvPr/>
        </p:nvSpPr>
        <p:spPr>
          <a:xfrm>
            <a:off x="7315200" y="0"/>
            <a:ext cx="18288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ff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27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28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29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32"/>
          <p:cNvSpPr/>
          <p:nvPr/>
        </p:nvSpPr>
        <p:spPr>
          <a:xfrm>
            <a:off x="5967360" y="613728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400"/>
                </a:solidFill>
                <a:latin typeface="Arial"/>
              </a:rPr>
              <a:t>Introduction to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3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 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36"/>
          <p:cNvSpPr/>
          <p:nvPr/>
        </p:nvSpPr>
        <p:spPr>
          <a:xfrm>
            <a:off x="665280" y="304920"/>
            <a:ext cx="3017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1356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8200" indent="-2923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3"/>
          </p:nvPr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591751B-9219-4F6E-854E-235517BC95E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jpe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ensus.gov/indicator/www/ustrade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siness in the Global Economy</a:t>
            </a:r>
            <a:endParaRPr b="1" lang="en-US" sz="48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34286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3-1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International Business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3-2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The Global Market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3-3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International Business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853000" y="3049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3C255B6-8C3D-4E98-A4B1-AE1AFC1168B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U.S. TRADE BALANCE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50" name="Picture 1029" descr=""/>
          <p:cNvPicPr/>
          <p:nvPr/>
        </p:nvPicPr>
        <p:blipFill>
          <a:blip r:embed="rId1"/>
          <a:srcRect l="0" t="6575" r="0" b="0"/>
          <a:stretch/>
        </p:blipFill>
        <p:spPr>
          <a:xfrm>
            <a:off x="2028960" y="1676520"/>
            <a:ext cx="5086080" cy="433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2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585AD54-27F7-4491-BF7B-471DD39B2C4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BALANCE OF TRAD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2243160" y="2195640"/>
            <a:ext cx="4657680" cy="246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25FD958-81CE-413E-B494-06532D8380C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balance of trade differ from balance of pay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F28DE18-39D3-47F0-91C7-6C64EFB452D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NTERNATIONAL CURRENCY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ign exchange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of currency in one country compared with that of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ain factors affecting currency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of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some countries with less-than-stable govts. 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2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0F09E78-7810-46CF-910A-6FAAE14B126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RECENT VALUES </a:t>
            </a:r>
            <a:br>
              <a:rPr sz="4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OF CURRENCIE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0" t="7275" r="0" b="1821"/>
          <a:stretch/>
        </p:blipFill>
        <p:spPr>
          <a:xfrm>
            <a:off x="681120" y="2133720"/>
            <a:ext cx="7781760" cy="380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9EBD4A7-A571-408A-BF89-94F43E7D600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actors affect the value of a country’s curr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237AC4F-4FEC-4BD4-963A-958CD3F6536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3-2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The Global Marketplac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components of the international business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examples of formal trade barr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actions to encourage international t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000640B-D4B4-459B-89DD-A17C9C5F64B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THE INTERNATIONAL BUSINESS ENVIRONMEN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al infl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c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and legal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C:\Documents and Settings\30800\Local Settings\Temporary Internet Files\Content.IE5\I4A0DTRU\MC900056246[1].wmf"/>
          <p:cNvPicPr/>
          <p:nvPr/>
        </p:nvPicPr>
        <p:blipFill>
          <a:blip r:embed="rId1"/>
          <a:stretch/>
        </p:blipFill>
        <p:spPr>
          <a:xfrm>
            <a:off x="5562720" y="1981080"/>
            <a:ext cx="1728720" cy="1271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C:\Documents and Settings\30800\Local Settings\Temporary Internet Files\Content.IE5\OLEBDURU\MP900444173[1].jpg"/>
          <p:cNvPicPr/>
          <p:nvPr/>
        </p:nvPicPr>
        <p:blipFill>
          <a:blip r:embed="rId2"/>
          <a:stretch/>
        </p:blipFill>
        <p:spPr>
          <a:xfrm>
            <a:off x="6000840" y="3581280"/>
            <a:ext cx="2581200" cy="172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1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A4F1D44-5D94-425E-9377-1B030821FFE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144440" y="152280"/>
            <a:ext cx="3198960" cy="23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cc99"/>
            </a:solidFill>
            <a:miter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00600" y="152280"/>
            <a:ext cx="3198960" cy="2376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99cc"/>
            </a:solidFill>
            <a:miter/>
          </a:ln>
          <a:effectLst>
            <a:outerShdw dist="17819" dir="2700000" blurRad="0" rotWithShape="0">
              <a:srgbClr val="00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144440" y="3276720"/>
            <a:ext cx="3198960" cy="2741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7ac1"/>
            </a:solidFill>
            <a:miter/>
          </a:ln>
          <a:effectLst>
            <a:outerShdw dist="17819" dir="2700000" blurRad="0" rotWithShape="0">
              <a:srgbClr val="0049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4800600" y="3276720"/>
            <a:ext cx="3198960" cy="27414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5c400"/>
            </a:solidFill>
            <a:miter/>
          </a:ln>
          <a:effectLst>
            <a:outerShdw dist="17819" dir="2700000" blurRad="0" rotWithShape="0">
              <a:srgbClr val="937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ICAL–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57200" y="2673360"/>
            <a:ext cx="8229600" cy="459720"/>
          </a:xfrm>
          <a:prstGeom prst="rect">
            <a:avLst/>
          </a:prstGeom>
          <a:solidFill>
            <a:srgbClr val="e0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INTERNATIONAL BUSINES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F147370-3E45-481E-87DD-564BF4318BE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lobal Marketplace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ations transportation, communication and utilit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ble waterways, RR, Interstate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er op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, electric, sewer, natural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C:\Documents and Settings\30800\Local Settings\Temporary Internet Files\Content.IE5\CRSJFY9F\MM900283503[1].gif"/>
          <p:cNvPicPr/>
          <p:nvPr/>
        </p:nvPicPr>
        <p:blipFill>
          <a:blip r:embed="rId1"/>
          <a:stretch/>
        </p:blipFill>
        <p:spPr>
          <a:xfrm>
            <a:off x="6934320" y="3962520"/>
            <a:ext cx="1552320" cy="1508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:\Documents and Settings\30800\Local Settings\Temporary Internet Files\Content.IE5\XAST5BE9\MP900402792[1].jpg"/>
          <p:cNvPicPr/>
          <p:nvPr/>
        </p:nvPicPr>
        <p:blipFill>
          <a:blip r:embed="rId2"/>
          <a:stretch/>
        </p:blipFill>
        <p:spPr>
          <a:xfrm>
            <a:off x="7647120" y="1305000"/>
            <a:ext cx="1679400" cy="1322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06281B0-A1DE-49B9-A639-35EB1C5603B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3-1</a:t>
            </a:r>
            <a:br>
              <a:rPr sz="2400"/>
            </a:br>
            <a:r>
              <a:rPr b="1" lang="en-US" sz="4000" spc="-1" strike="noStrike">
                <a:solidFill>
                  <a:srgbClr val="e00024"/>
                </a:solidFill>
                <a:latin typeface="Arial"/>
              </a:rPr>
              <a:t>International Business Basics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importing and export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balance of trade and balance of pay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factors that affect the value of global curre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C2E7C51-607B-49F3-AA2B-B98663A149C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nternational Trade barrier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80000"/>
              </a:lnSpc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to free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s on imports or ex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80000"/>
              </a:lnSpc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limit exports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ax on im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ing the import or export of a specific product 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80000"/>
              </a:lnSpc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do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C:\Documents and Settings\30800\Local Settings\Temporary Internet Files\Content.IE5\GP8LJUVI\MP900289255[1].jpg"/>
          <p:cNvPicPr/>
          <p:nvPr/>
        </p:nvPicPr>
        <p:blipFill>
          <a:blip r:embed="rId1"/>
          <a:stretch/>
        </p:blipFill>
        <p:spPr>
          <a:xfrm>
            <a:off x="5943600" y="1600200"/>
            <a:ext cx="2749680" cy="181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1D95A0E-0B9E-4777-B862-3F9F862B0D2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QUOTA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quo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supply low and prices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ress displeasure at the policies of the importing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tect one of a country’s industries from too much competition form a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C:\Documents and Settings\30800\Local Settings\Temporary Internet Files\Content.IE5\XAST5BE9\MP900387513[1].jpg"/>
          <p:cNvPicPr/>
          <p:nvPr/>
        </p:nvPicPr>
        <p:blipFill>
          <a:blip r:embed="rId1"/>
          <a:stretch/>
        </p:blipFill>
        <p:spPr>
          <a:xfrm>
            <a:off x="5638680" y="228600"/>
            <a:ext cx="2576520" cy="1838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95C9F8E-AEA7-416B-862B-33C8EE0F495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TARIFF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tari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amount per pound, gallon, or other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the value of a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C:\Documents and Settings\30800\Local Settings\Temporary Internet Files\Content.IE5\GP8LJUVI\MM900395692[1].gif"/>
          <p:cNvPicPr/>
          <p:nvPr/>
        </p:nvPicPr>
        <p:blipFill>
          <a:blip r:embed="rId1"/>
          <a:stretch/>
        </p:blipFill>
        <p:spPr>
          <a:xfrm>
            <a:off x="6248520" y="3733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F415440-CBF0-4543-ACE7-4747E22E537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EMBARGOE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embarg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tect a country’s industries from international competition more than the quota or tariff will ach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vent sensitive products from falling into the hands of unfriendly groups or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C:\Documents and Settings\30800\Local Settings\Temporary Internet Files\Content.IE5\I4A0DTRU\MC900233644[1].wmf"/>
          <p:cNvPicPr/>
          <p:nvPr/>
        </p:nvPicPr>
        <p:blipFill>
          <a:blip r:embed="rId1"/>
          <a:stretch/>
        </p:blipFill>
        <p:spPr>
          <a:xfrm>
            <a:off x="7086600" y="380880"/>
            <a:ext cx="1727280" cy="225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1FFE4FE-20F4-4F38-B9BD-FD30101EC03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ENCOURAGING INTERNATIONAL TRAD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2400" indent="-392400">
              <a:lnSpc>
                <a:spcPct val="80000"/>
              </a:lnSpc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-trade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lnSpc>
                <a:spcPct val="80000"/>
              </a:lnSpc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where products can be imported duty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2920" indent="-33120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ored, assemble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2920" indent="-33120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ed when it leaves the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lnSpc>
                <a:spcPct val="80000"/>
              </a:lnSpc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-trade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lnSpc>
                <a:spcPct val="80000"/>
              </a:lnSpc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untries remove duties and barriers on products traded amo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lnSpc>
                <a:spcPct val="80000"/>
              </a:lnSpc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F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2920" indent="-33120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American Free Trade Agreement (199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lnSpc>
                <a:spcPct val="80000"/>
              </a:lnSpc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lnSpc>
                <a:spcPct val="80000"/>
              </a:lnSpc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2920" indent="-33120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—European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2920" indent="-33120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IA—Latin America Integration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58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C:\Documents and Settings\30800\Local Settings\Temporary Internet Files\Content.IE5\CRSJFY9F\MC900383686[1].wmf"/>
          <p:cNvPicPr/>
          <p:nvPr/>
        </p:nvPicPr>
        <p:blipFill>
          <a:blip r:embed="rId1"/>
          <a:stretch/>
        </p:blipFill>
        <p:spPr>
          <a:xfrm>
            <a:off x="7391520" y="1641600"/>
            <a:ext cx="1566720" cy="1825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5BDCF80-2A67-4193-97E3-5F611D35A00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OMMON MARKET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2400" indent="-392400">
              <a:spcBef>
                <a:spcPts val="4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ompanies to invest freely in each member’s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4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workers to move freely across b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4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 Union (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in American Integration Association (LA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C:\Documents and Settings\30800\Local Settings\Temporary Internet Files\Content.IE5\OLEBDURU\MP900425463[1].jpg"/>
          <p:cNvPicPr/>
          <p:nvPr/>
        </p:nvPicPr>
        <p:blipFill>
          <a:blip r:embed="rId1"/>
          <a:stretch/>
        </p:blipFill>
        <p:spPr>
          <a:xfrm>
            <a:off x="6477120" y="-228600"/>
            <a:ext cx="3504960" cy="2330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E395995-2235-4042-BB40-41C0486C4D3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ctions could be taken to encourage international tr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20A74E4-29EE-4DCB-8DBE-6051F5D21CF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3-3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nternational Business Organization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activities of multinational organiz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common international business entry m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ctivities of international trade organizations and age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DB30D64-2570-42E7-A0A1-547C06E9D4E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national company (MN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business in several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4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DBDC650-6CD1-4F10-920F-80DB4E571D7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MULTINATIONAL COMPANIES (MNC)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80520" indent="-380520">
              <a:spcBef>
                <a:spcPts val="9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NC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strategies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ountry handled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coca-cola-logo"/>
          <p:cNvPicPr/>
          <p:nvPr/>
        </p:nvPicPr>
        <p:blipFill>
          <a:blip r:embed="rId1"/>
          <a:stretch/>
        </p:blipFill>
        <p:spPr>
          <a:xfrm>
            <a:off x="6553080" y="1523880"/>
            <a:ext cx="2428920" cy="723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arch"/>
          <p:cNvPicPr/>
          <p:nvPr/>
        </p:nvPicPr>
        <p:blipFill>
          <a:blip r:embed="rId2"/>
          <a:stretch/>
        </p:blipFill>
        <p:spPr>
          <a:xfrm>
            <a:off x="380880" y="4952880"/>
            <a:ext cx="1143000" cy="851040"/>
          </a:xfrm>
          <a:prstGeom prst="rect">
            <a:avLst/>
          </a:prstGeom>
          <a:ln w="0">
            <a:noFill/>
          </a:ln>
        </p:spPr>
      </p:pic>
      <p:sp>
        <p:nvSpPr>
          <p:cNvPr id="245" name="Line 12"/>
          <p:cNvSpPr/>
          <p:nvPr/>
        </p:nvSpPr>
        <p:spPr>
          <a:xfrm flipH="1">
            <a:off x="1219320" y="41148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2895480" y="2057400"/>
            <a:ext cx="3810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D0622C8-4DD0-4C83-9DDD-CC1D7C99D16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estic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, buying &amp; selling G&amp;S with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Business AKA (foreign or world t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needed for creating, shipping &amp; selling G &amp; S world-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0C56351-A01E-417F-B594-011497F89B4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MNC BENEFIT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 of good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pr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ter understanding, communication, and resp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 internation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F1B0671-2819-419D-BB98-276113EE6E8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0024"/>
                </a:solidFill>
                <a:latin typeface="Arial"/>
              </a:rPr>
              <a:t>DRAWBACKS OF MULTINATIONAL COMPANIES</a:t>
            </a:r>
            <a:endParaRPr b="1" lang="en-US" sz="40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 dependence on the M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DB7B73B-8487-4C93-A071-EFC27BBBF79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wo strategies commonly used by multinational compa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0546C02-0431-40DA-A10D-753C2E2E1A8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LOBAL MARKET </a:t>
            </a:r>
            <a:br>
              <a:rPr sz="4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ENTRY MODE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h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3A5A0F7-ACBC-484D-969C-36AFC90B7C0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LICENS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ompanies to produce items in other countries without being actively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low financial investment, so the potential financial return for the company is often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sk for the company is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87FEACA-2B5B-4475-8DAA-647FF2C420A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FRANCHIS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88440" indent="-38844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organizations to enter into contracts with people in other countries to set up a business that looks and runs like the parent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elements, such as food products, packaging, and advertising must meet both cultural sensitivities and leg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involves selling a product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1C163E3-6916-4305-A84C-F64FD06E8EA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JOINT VENTUR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wo or more companies to share raw materials, shipping facilities, management activities, or productio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s include the sharing of profits and not as much control since several companies ar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popular for manufacturing, such as Japanese and U.S. automobile manufactur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F81E1DD-486D-4570-99A1-8C59FBCFD16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licensing differ from a franch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B77053D-B1AD-445D-8BE7-AE55728DF76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NTERNATIONAL TRADE ORGANIZATION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Trad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Monetar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C75CF3D-B46C-48A3-8CF5-A777EFABCCC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WORLD TRADE ORGANIZATION (WTO)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TO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ing tariffs that discourage free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ng import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barriers for banks, insurance companies, and other financ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ing poor countries with economic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DB73BA0-E796-4EC4-8680-4CDD5784F11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TRADING AMONG NATION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country can produce a G or S at a lower cost than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ffee—Sou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l—Saudi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country specializes in the production of a G or S which it is relatively more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VD/cereal problem we did ear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44BED55-7DD9-448F-971B-728F41DBA65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NTERNATIONAL MONETARY FUND (IMF)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to promote economic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s an orderly system of world trade and exchange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over 150 member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8A54E02-808E-4C03-92BE-8C6F4E81F9A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WORLD BANK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in 1944 to provide loans for rebuilding after World War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the World Bank has over 180 member countries and two main di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5424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Development Association (IDA), which makes loans to help developing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5424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Finance Corporation (IFC), which provides technical capital and technical help to private businesses in nations with limite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4A4874E-FA8B-4E3E-A983-76B314AA609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International Monetary Fund assist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6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7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5849AA3-7C24-4553-A0C9-C76A1AC9142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MPORT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16" name="Picture 13" descr="j0215939"/>
          <p:cNvPicPr/>
          <p:nvPr/>
        </p:nvPicPr>
        <p:blipFill>
          <a:blip r:embed="rId1"/>
          <a:stretch/>
        </p:blipFill>
        <p:spPr>
          <a:xfrm>
            <a:off x="2362320" y="2590920"/>
            <a:ext cx="1474560" cy="1904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j0215358"/>
          <p:cNvPicPr/>
          <p:nvPr/>
        </p:nvPicPr>
        <p:blipFill>
          <a:blip r:embed="rId2"/>
          <a:stretch/>
        </p:blipFill>
        <p:spPr>
          <a:xfrm>
            <a:off x="7086600" y="1981080"/>
            <a:ext cx="1346040" cy="190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j0234733"/>
          <p:cNvPicPr/>
          <p:nvPr/>
        </p:nvPicPr>
        <p:blipFill>
          <a:blip r:embed="rId3"/>
          <a:stretch/>
        </p:blipFill>
        <p:spPr>
          <a:xfrm>
            <a:off x="1905120" y="4572000"/>
            <a:ext cx="1162080" cy="1209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066680" y="1523880"/>
            <a:ext cx="76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r total supply of the following items are impor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j0232444"/>
          <p:cNvPicPr/>
          <p:nvPr/>
        </p:nvPicPr>
        <p:blipFill>
          <a:blip r:embed="rId4"/>
          <a:stretch/>
        </p:blipFill>
        <p:spPr>
          <a:xfrm>
            <a:off x="3809880" y="3809880"/>
            <a:ext cx="1758960" cy="1868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j0182914"/>
          <p:cNvPicPr/>
          <p:nvPr/>
        </p:nvPicPr>
        <p:blipFill>
          <a:blip r:embed="rId5"/>
          <a:stretch/>
        </p:blipFill>
        <p:spPr>
          <a:xfrm>
            <a:off x="380880" y="2971800"/>
            <a:ext cx="1665360" cy="1816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MPPH03079I0000[1]"/>
          <p:cNvPicPr/>
          <p:nvPr/>
        </p:nvPicPr>
        <p:blipFill>
          <a:blip r:embed="rId6"/>
          <a:stretch/>
        </p:blipFill>
        <p:spPr>
          <a:xfrm>
            <a:off x="5410080" y="2590920"/>
            <a:ext cx="1266840" cy="1904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j0281682"/>
          <p:cNvPicPr/>
          <p:nvPr/>
        </p:nvPicPr>
        <p:blipFill>
          <a:blip r:embed="rId7"/>
          <a:stretch/>
        </p:blipFill>
        <p:spPr>
          <a:xfrm>
            <a:off x="6705720" y="4038480"/>
            <a:ext cx="1893600" cy="1611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9409599-1037-4B9D-A3AE-8DE8DB98F66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MPORT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27" name="Picture 15" descr="j0278862"/>
          <p:cNvPicPr/>
          <p:nvPr/>
        </p:nvPicPr>
        <p:blipFill>
          <a:blip r:embed="rId1"/>
          <a:stretch/>
        </p:blipFill>
        <p:spPr>
          <a:xfrm>
            <a:off x="1295280" y="3124080"/>
            <a:ext cx="2208240" cy="2208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1066680" y="1523880"/>
            <a:ext cx="76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import half of our supply of the following item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" descr="j0233364"/>
          <p:cNvPicPr/>
          <p:nvPr/>
        </p:nvPicPr>
        <p:blipFill>
          <a:blip r:embed="rId2"/>
          <a:stretch/>
        </p:blipFill>
        <p:spPr>
          <a:xfrm>
            <a:off x="4572000" y="3129120"/>
            <a:ext cx="3102120" cy="2304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6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7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F08305F-0E6D-49BA-BCC2-EE069E3BFCB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MPORT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33" name="Picture 15" descr="j0215927"/>
          <p:cNvPicPr/>
          <p:nvPr/>
        </p:nvPicPr>
        <p:blipFill>
          <a:blip r:embed="rId1"/>
          <a:stretch/>
        </p:blipFill>
        <p:spPr>
          <a:xfrm>
            <a:off x="914400" y="2590920"/>
            <a:ext cx="3156120" cy="158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MPj02896290000[1]"/>
          <p:cNvPicPr/>
          <p:nvPr/>
        </p:nvPicPr>
        <p:blipFill>
          <a:blip r:embed="rId2"/>
          <a:stretch/>
        </p:blipFill>
        <p:spPr>
          <a:xfrm>
            <a:off x="5916600" y="1981080"/>
            <a:ext cx="1273320" cy="1905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j0215348"/>
          <p:cNvPicPr/>
          <p:nvPr/>
        </p:nvPicPr>
        <p:blipFill>
          <a:blip r:embed="rId3"/>
          <a:stretch/>
        </p:blipFill>
        <p:spPr>
          <a:xfrm>
            <a:off x="1914480" y="4159080"/>
            <a:ext cx="1352520" cy="16621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1066680" y="1523880"/>
            <a:ext cx="76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, 20 – 50 % or our total supply of the following item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4" descr="j0232628"/>
          <p:cNvPicPr/>
          <p:nvPr/>
        </p:nvPicPr>
        <p:blipFill>
          <a:blip r:embed="rId4"/>
          <a:stretch/>
        </p:blipFill>
        <p:spPr>
          <a:xfrm>
            <a:off x="6553080" y="3733920"/>
            <a:ext cx="1951200" cy="1904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6" descr="j0199312"/>
          <p:cNvPicPr/>
          <p:nvPr/>
        </p:nvPicPr>
        <p:blipFill>
          <a:blip r:embed="rId5"/>
          <a:stretch/>
        </p:blipFill>
        <p:spPr>
          <a:xfrm>
            <a:off x="4191120" y="3733920"/>
            <a:ext cx="1726920" cy="2017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48AEFA6-2FFF-4EE9-A0A7-9910004C3E3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MPORT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42" name="Picture 1028" descr=""/>
          <p:cNvPicPr/>
          <p:nvPr/>
        </p:nvPicPr>
        <p:blipFill>
          <a:blip r:embed="rId1"/>
          <a:stretch/>
        </p:blipFill>
        <p:spPr>
          <a:xfrm>
            <a:off x="714240" y="1752480"/>
            <a:ext cx="7715520" cy="419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CA53760-F545-46BC-AC2B-3C396838EF9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0024"/>
                </a:solidFill>
                <a:latin typeface="Arial"/>
              </a:rPr>
              <a:t>MEASURING TRADE RELATIONS</a:t>
            </a:r>
            <a:endParaRPr b="1" lang="en-US" sz="40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of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the amount of money that comes in and leaves a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(favorable)/ Negative (unfavor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of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a country’s total imports &amp; 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ac1"/>
                </a:solidFill>
                <a:uFillTx/>
                <a:latin typeface="Arial"/>
                <a:hlinkClick r:id="rId1"/>
              </a:rPr>
              <a:t>Trade deficit/Trade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5:16:15Z</dcterms:created>
  <dc:creator>M. C. McLaughlin</dc:creator>
  <dc:description/>
  <dc:language>en-US</dc:language>
  <cp:lastModifiedBy>test</cp:lastModifiedBy>
  <cp:lastPrinted>2006-10-04T12:01:19Z</cp:lastPrinted>
  <dcterms:modified xsi:type="dcterms:W3CDTF">2012-11-12T14:40:26Z</dcterms:modified>
  <cp:revision>19</cp:revision>
  <dc:subject/>
  <dc:title>Chapter 3 Business in the Global Economy</dc:title>
</cp:coreProperties>
</file>