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11.wmf" ContentType="image/x-wmf"/>
  <Override PartName="/ppt/media/image26.png" ContentType="image/png"/>
  <Override PartName="/ppt/media/image25.png" ContentType="image/png"/>
  <Override PartName="/ppt/media/image32.gif" ContentType="image/gif"/>
  <Override PartName="/ppt/media/image7.wmf" ContentType="image/x-wmf"/>
  <Override PartName="/ppt/media/image30.jpeg" ContentType="image/jpeg"/>
  <Override PartName="/ppt/media/image35.jpeg" ContentType="image/jpeg"/>
  <Override PartName="/ppt/media/image8.jpeg" ContentType="image/jpeg"/>
  <Override PartName="/ppt/media/image37.jpeg" ContentType="image/jpeg"/>
  <Override PartName="/ppt/media/image6.wmf" ContentType="image/x-wmf"/>
  <Override PartName="/ppt/media/image5.gif" ContentType="image/gif"/>
  <Override PartName="/ppt/media/image16.wmf" ContentType="image/x-wmf"/>
  <Override PartName="/ppt/media/image28.gif" ContentType="image/gif"/>
  <Override PartName="/ppt/media/image34.wmf" ContentType="image/x-wmf"/>
  <Override PartName="/ppt/media/image4.wmf" ContentType="image/x-wmf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9924E1-928D-4BEF-A0F1-74DF9B4AC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04A85C-8AD2-4631-A11A-0AD3854F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46DAB4-07D2-485C-A07A-55A777EA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F8F0-1B52-46C0-A773-5DACEA133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D405-81C3-4BA0-9929-4E93EF96E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66C5-AA3D-43CF-ACFF-5866CF5D1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3C68-9620-4F72-B603-73763041D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C4824-C60E-4B46-AF45-4B65034BF1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9FEE3-A546-4B7C-B90A-63212FA35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CCE1-BB7B-4CC2-9DE4-9B1D6EC01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BAA99-A654-42BC-9E97-54E6DD918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6096D-DA9B-4CCC-8500-1EC9AAF563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1D4E8-2646-4AE7-9A14-D7667ED80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0D50-A119-4283-9B3C-5F97D5D4D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6522-BE93-4A17-9FE6-35CCEBBC7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E342-32E0-4368-9093-944446564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AFB8-170D-4445-BC04-1704033BB1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19778-F7E2-47C1-9376-DF7261A8CF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95748-2D60-497E-8E3B-7CF5E46E7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3E080-ED2B-4424-8F34-EDD8C69BF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A708-AAF8-4E48-B30D-29BE3B001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ED983-405F-420D-97BA-51541AA8C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E534-3843-4595-9F7A-3C9522363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D392-017F-4E9A-9837-3D38D38D3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A977-9232-4BCB-9FC0-38866B90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7345-1499-49C3-A5C1-C765A2424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F6B2-4A67-471D-B643-EB5DF28B1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7B061F9-DD94-4BBD-9253-5D52D8B227A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29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6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2305FAB-DBAE-49EF-8A62-5A069FCCB71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sus.gov/indicator/www/ustrad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siness in the Global Economy</a:t>
            </a:r>
            <a:endParaRPr b="1" lang="en-US" sz="4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The Global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3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International Busines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3E21949-BE76-4364-8942-4527B6E598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U.S. TRADE BALANC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0" name="Picture 1029" descr=""/>
          <p:cNvPicPr/>
          <p:nvPr/>
        </p:nvPicPr>
        <p:blipFill>
          <a:blip r:embed="rId1"/>
          <a:srcRect l="0" t="6575" r="0" b="0"/>
          <a:stretch/>
        </p:blipFill>
        <p:spPr>
          <a:xfrm>
            <a:off x="2028960" y="1676520"/>
            <a:ext cx="5086080" cy="433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638C7F4-463D-4612-8F03-A5CE6D86847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BALANCE OF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243160" y="2195640"/>
            <a:ext cx="465768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9767D75-104E-4F80-B378-3B90DFE334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balance of trade differ from balance of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652D3C7-47F8-4F41-B9C0-D28F7A7D7B0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CURRENC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currency in one country compared with that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factors affecting currenc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countries with less-than-stable govts.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4823D5A-1072-414F-A56E-BE628205291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RECENT VALUES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OF CURRENC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0" t="7275" r="0" b="1821"/>
          <a:stretch/>
        </p:blipFill>
        <p:spPr>
          <a:xfrm>
            <a:off x="681120" y="2133720"/>
            <a:ext cx="77817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A829A73-F339-45DF-B0B7-79479F527B4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value of a country’s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52A4425-49ED-4E1A-8D08-939500E0FA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Global Marketpla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nents of the international busines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examples of formal trade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to encourage international t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955C4B0-1CA9-41F2-BDC5-58322BB1139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HE INTERNATIONAL BUSINESS ENVIRO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c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leg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C:\Documents and Settings\30800\Local Settings\Temporary Internet Files\Content.IE5\I4A0DTRU\MC900056246[1].wmf"/>
          <p:cNvPicPr/>
          <p:nvPr/>
        </p:nvPicPr>
        <p:blipFill>
          <a:blip r:embed="rId1"/>
          <a:stretch/>
        </p:blipFill>
        <p:spPr>
          <a:xfrm>
            <a:off x="5562720" y="1981080"/>
            <a:ext cx="1728720" cy="127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Documents and Settings\30800\Local Settings\Temporary Internet Files\Content.IE5\OLEBDURU\MP900444173[1].jpg"/>
          <p:cNvPicPr/>
          <p:nvPr/>
        </p:nvPicPr>
        <p:blipFill>
          <a:blip r:embed="rId2"/>
          <a:stretch/>
        </p:blipFill>
        <p:spPr>
          <a:xfrm>
            <a:off x="6000840" y="3581280"/>
            <a:ext cx="258120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1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90A3E4-E936-4555-81D1-84CC3B667B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44440" y="152280"/>
            <a:ext cx="3198960" cy="23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00600" y="152280"/>
            <a:ext cx="31989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44440" y="3276720"/>
            <a:ext cx="3198960" cy="274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7ac1"/>
            </a:solidFill>
            <a:miter/>
          </a:ln>
          <a:effectLst>
            <a:outerShdw dist="17819" dir="2700000" blurRad="0" rotWithShape="0">
              <a:srgbClr val="0049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800600" y="3276720"/>
            <a:ext cx="3198960" cy="2741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5c400"/>
            </a:solidFill>
            <a:miter/>
          </a:ln>
          <a:effectLst>
            <a:outerShdw dist="17819" dir="2700000" blurRad="0" rotWithShape="0">
              <a:srgbClr val="9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AL–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e0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2673360"/>
            <a:ext cx="8229600" cy="459720"/>
          </a:xfrm>
          <a:prstGeom prst="rect">
            <a:avLst/>
          </a:prstGeom>
          <a:solidFill>
            <a:srgbClr val="e0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TERNATIONAL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F391F89-FA7E-4881-9D93-CC04F94AEA0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place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tions transportation, communication and utilit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 waterways, RR, Interstate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, electric, sewer,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Documents and Settings\30800\Local Settings\Temporary Internet Files\Content.IE5\CRSJFY9F\MM900283503[1].gif"/>
          <p:cNvPicPr/>
          <p:nvPr/>
        </p:nvPicPr>
        <p:blipFill>
          <a:blip r:embed="rId1"/>
          <a:stretch/>
        </p:blipFill>
        <p:spPr>
          <a:xfrm>
            <a:off x="6934320" y="3962520"/>
            <a:ext cx="1552320" cy="1508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30800\Local Settings\Temporary Internet Files\Content.IE5\XAST5BE9\MP900402792[1].jpg"/>
          <p:cNvPicPr/>
          <p:nvPr/>
        </p:nvPicPr>
        <p:blipFill>
          <a:blip r:embed="rId2"/>
          <a:stretch/>
        </p:blipFill>
        <p:spPr>
          <a:xfrm>
            <a:off x="7647120" y="1305000"/>
            <a:ext cx="16794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6F7DE5E-A868-46E8-9A74-67917FA858C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1</a:t>
            </a:r>
            <a:br>
              <a:rPr sz="2400"/>
            </a:b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International Business Basics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mporting and export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alance of trade and balance of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factors that affect the value of global curr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07DD49F-50D8-4C71-AB4D-E9C743EFF8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barrier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to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on imports 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limit expor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x o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import or export of a specific product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:\Documents and Settings\30800\Local Settings\Temporary Internet Files\Content.IE5\GP8LJUVI\MP900289255[1].jpg"/>
          <p:cNvPicPr/>
          <p:nvPr/>
        </p:nvPicPr>
        <p:blipFill>
          <a:blip r:embed="rId1"/>
          <a:stretch/>
        </p:blipFill>
        <p:spPr>
          <a:xfrm>
            <a:off x="5943600" y="1600200"/>
            <a:ext cx="274968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01A294-25A6-4556-BFD6-27198B2A7D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QUOTA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supply low and price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ress displeasure at the policies of the importing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one of a country’s industries from too much competition form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30800\Local Settings\Temporary Internet Files\Content.IE5\XAST5BE9\MP900387513[1].jpg"/>
          <p:cNvPicPr/>
          <p:nvPr/>
        </p:nvPicPr>
        <p:blipFill>
          <a:blip r:embed="rId1"/>
          <a:stretch/>
        </p:blipFill>
        <p:spPr>
          <a:xfrm>
            <a:off x="5638680" y="228600"/>
            <a:ext cx="2576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5091594-8E99-4090-8C74-F0F2DFCB4EA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ARIFF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tar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mount per pound, gallon, or othe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value of 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30800\Local Settings\Temporary Internet Files\Content.IE5\GP8LJUVI\MM900395692[1].gif"/>
          <p:cNvPicPr/>
          <p:nvPr/>
        </p:nvPicPr>
        <p:blipFill>
          <a:blip r:embed="rId1"/>
          <a:stretch/>
        </p:blipFill>
        <p:spPr>
          <a:xfrm>
            <a:off x="62485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BB6B264-27A9-4C93-AD03-BAA913B8289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MBARGO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embarg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tect a country’s industries from international competition more than the quota or tariff will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sensitive products from falling into the hands of unfriendly groups o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Documents and Settings\30800\Local Settings\Temporary Internet Files\Content.IE5\I4A0DTRU\MC900233644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727280" cy="225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E9936A-68BB-42F7-AE4A-7B7E084B311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COURAGING INTERNATIONAL TRA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where products can be imported duty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ored, assembl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ed when it leaves th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trade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untries remove duties and barriers on products traded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n Free Trade Agreement (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lnSpc>
                <a:spcPct val="80000"/>
              </a:lnSpc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lnSpc>
                <a:spcPct val="80000"/>
              </a:lnSpc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—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2920" indent="-33120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A—Latin America Integratio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C:\Documents and Settings\30800\Local Settings\Temporary Internet Files\Content.IE5\CRSJFY9F\MC900383686[1].wmf"/>
          <p:cNvPicPr/>
          <p:nvPr/>
        </p:nvPicPr>
        <p:blipFill>
          <a:blip r:embed="rId1"/>
          <a:stretch/>
        </p:blipFill>
        <p:spPr>
          <a:xfrm>
            <a:off x="7391520" y="1641600"/>
            <a:ext cx="156672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84E568-2F64-4B18-B2A2-A740C26C777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MMON MARKE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invest freely in each member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workers to move freely across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4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Union (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n Integration Association (LA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C:\Documents and Settings\30800\Local Settings\Temporary Internet Files\Content.IE5\OLEBDURU\MP900425463[1].jpg"/>
          <p:cNvPicPr/>
          <p:nvPr/>
        </p:nvPicPr>
        <p:blipFill>
          <a:blip r:embed="rId1"/>
          <a:stretch/>
        </p:blipFill>
        <p:spPr>
          <a:xfrm>
            <a:off x="6477120" y="-228600"/>
            <a:ext cx="3504960" cy="233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D64132-5C26-423D-9299-2FE81CCCEC1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ons could be taken to encourage international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644A36B-5857-4F71-80F4-19AE7A6BE66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3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Business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ctivities of multinational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common international business entry m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ctivities of international trade organizations and ag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31C32D0-0FE4-4C37-8317-F3CFDDAD17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 company (M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usiness in sever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6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2568185-9A68-44ED-B200-67B7784EF88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ULTINATIONAL COMPANIES (MNC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0520" indent="-380520">
              <a:spcBef>
                <a:spcPts val="90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C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rategie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untry handl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coca-cola-logo"/>
          <p:cNvPicPr/>
          <p:nvPr/>
        </p:nvPicPr>
        <p:blipFill>
          <a:blip r:embed="rId1"/>
          <a:stretch/>
        </p:blipFill>
        <p:spPr>
          <a:xfrm>
            <a:off x="6553080" y="1523880"/>
            <a:ext cx="2428920" cy="72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arch"/>
          <p:cNvPicPr/>
          <p:nvPr/>
        </p:nvPicPr>
        <p:blipFill>
          <a:blip r:embed="rId2"/>
          <a:stretch/>
        </p:blipFill>
        <p:spPr>
          <a:xfrm>
            <a:off x="380880" y="4952880"/>
            <a:ext cx="11430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Line 12"/>
          <p:cNvSpPr/>
          <p:nvPr/>
        </p:nvSpPr>
        <p:spPr>
          <a:xfrm flipH="1">
            <a:off x="1219320" y="41148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895480" y="2057400"/>
            <a:ext cx="3810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6AE4DF-B945-4763-A19D-512ED200D47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, buying &amp; selling G&amp;S with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usiness AKA (foreign or worl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needed for creating, shipping &amp; selling G &amp; 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917FF13-89CB-4985-84F3-8EB3DF1E79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MNC BENEFI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 of good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p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understanding, communication, and resp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 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3FC6FF-F2B2-45FE-820E-D7A735B5720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DRAWBACKS OF MULTINATIONAL COMPANIE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dependence on the M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6C62DB-4157-44A2-9F62-F6A79AA879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strategies commonly used by multinational compa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EE29B3-6799-40DA-AE0F-BED9497308E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LOBAL MARKET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ENTRY MOD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h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75BABE2-0FDF-48BB-A141-99E14689392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ICEN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anies to produce items in other countries without being activel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low financial investment, so the potential financial return for the company is often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k for the company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A15482F-4B01-4138-AD3D-1DF28882A88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RANCHIS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rganizations to enter into contracts with people in other countries to set up a business that looks and runs like the parent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elements, such as food products, packaging, and advertising must meet both cultural sensitivities and leg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involves selling a product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C6CE8E-D98A-422E-A2D5-186CA4DF3E8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JOINT VENTUR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wo or more companies to share raw materials, shipping facilities, management activities, or produc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include the sharing of profits and not as much control since several companies ar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for manufacturing, such as Japanese and U.S. automobil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C8C11F9-2BB0-454B-825B-8FAE526CF8A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licensing differ from a franch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35D6985-EDAC-4A1E-98F8-756FB909721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TRADE ORGANIZ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034F598-F7C2-4CC5-ABAA-5E1A89B88A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TRADE ORGANIZATION (WTO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ing tariffs that discourage free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import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barriers for banks, insurance companies, and other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ng poor countries with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7C11AB5-BC4C-472C-BED0-D94A7A493E2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TRADING AMONG NATION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can produce a G or S at a lower cost than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ffee—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—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untry specializes in the production of a G or S which it is relatively 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D/cereal problem we di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04D9683-53FA-4633-A8F2-6F0F4DD2834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NTERNATIONAL MONETARY FUND (IMF)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promote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an orderly system of world trade and exchang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ver 150 member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2A9C34-C249-4DB1-8741-7AFA6C8444C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WORLD BANK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 1944 to provide loans for rebuilding after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the World Bank has over 180 member countries and two main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Development Association (IDA), which makes loans to help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424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Finance Corporation (IFC), which provides technical capital and technical help to private businesses in nations with limi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538438-BB6E-43F0-B75F-28D709E903D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nternational Monetary Fund assist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454D170-FB62-4B57-B3AB-B09C838A522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16" name="Picture 13" descr="j0215939"/>
          <p:cNvPicPr/>
          <p:nvPr/>
        </p:nvPicPr>
        <p:blipFill>
          <a:blip r:embed="rId1"/>
          <a:stretch/>
        </p:blipFill>
        <p:spPr>
          <a:xfrm>
            <a:off x="2362320" y="2590920"/>
            <a:ext cx="14745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358"/>
          <p:cNvPicPr/>
          <p:nvPr/>
        </p:nvPicPr>
        <p:blipFill>
          <a:blip r:embed="rId2"/>
          <a:stretch/>
        </p:blipFill>
        <p:spPr>
          <a:xfrm>
            <a:off x="7086600" y="1981080"/>
            <a:ext cx="13460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j0234733"/>
          <p:cNvPicPr/>
          <p:nvPr/>
        </p:nvPicPr>
        <p:blipFill>
          <a:blip r:embed="rId3"/>
          <a:stretch/>
        </p:blipFill>
        <p:spPr>
          <a:xfrm>
            <a:off x="1905120" y="45720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total supply of the following items are impo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j0232444"/>
          <p:cNvPicPr/>
          <p:nvPr/>
        </p:nvPicPr>
        <p:blipFill>
          <a:blip r:embed="rId4"/>
          <a:stretch/>
        </p:blipFill>
        <p:spPr>
          <a:xfrm>
            <a:off x="3809880" y="3809880"/>
            <a:ext cx="1758960" cy="186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j0182914"/>
          <p:cNvPicPr/>
          <p:nvPr/>
        </p:nvPicPr>
        <p:blipFill>
          <a:blip r:embed="rId5"/>
          <a:stretch/>
        </p:blipFill>
        <p:spPr>
          <a:xfrm>
            <a:off x="380880" y="2971800"/>
            <a:ext cx="1665360" cy="181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MPPH03079I0000[1]"/>
          <p:cNvPicPr/>
          <p:nvPr/>
        </p:nvPicPr>
        <p:blipFill>
          <a:blip r:embed="rId6"/>
          <a:stretch/>
        </p:blipFill>
        <p:spPr>
          <a:xfrm>
            <a:off x="5410080" y="2590920"/>
            <a:ext cx="126684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281682"/>
          <p:cNvPicPr/>
          <p:nvPr/>
        </p:nvPicPr>
        <p:blipFill>
          <a:blip r:embed="rId7"/>
          <a:stretch/>
        </p:blipFill>
        <p:spPr>
          <a:xfrm>
            <a:off x="6705720" y="4038480"/>
            <a:ext cx="1893600" cy="161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B672BEB-798D-480C-9F32-1C0196F015B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27" name="Picture 15" descr="j0278862"/>
          <p:cNvPicPr/>
          <p:nvPr/>
        </p:nvPicPr>
        <p:blipFill>
          <a:blip r:embed="rId1"/>
          <a:stretch/>
        </p:blipFill>
        <p:spPr>
          <a:xfrm>
            <a:off x="1295280" y="31240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import half of our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j0233364"/>
          <p:cNvPicPr/>
          <p:nvPr/>
        </p:nvPicPr>
        <p:blipFill>
          <a:blip r:embed="rId2"/>
          <a:stretch/>
        </p:blipFill>
        <p:spPr>
          <a:xfrm>
            <a:off x="4572000" y="3129120"/>
            <a:ext cx="310212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A946C85-A464-4DEB-9D5B-DDE0BDD87C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33" name="Picture 15" descr="j0215927"/>
          <p:cNvPicPr/>
          <p:nvPr/>
        </p:nvPicPr>
        <p:blipFill>
          <a:blip r:embed="rId1"/>
          <a:stretch/>
        </p:blipFill>
        <p:spPr>
          <a:xfrm>
            <a:off x="914400" y="2590920"/>
            <a:ext cx="315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MPj02896290000[1]"/>
          <p:cNvPicPr/>
          <p:nvPr/>
        </p:nvPicPr>
        <p:blipFill>
          <a:blip r:embed="rId2"/>
          <a:stretch/>
        </p:blipFill>
        <p:spPr>
          <a:xfrm>
            <a:off x="5916600" y="1981080"/>
            <a:ext cx="12733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j0215348"/>
          <p:cNvPicPr/>
          <p:nvPr/>
        </p:nvPicPr>
        <p:blipFill>
          <a:blip r:embed="rId3"/>
          <a:stretch/>
        </p:blipFill>
        <p:spPr>
          <a:xfrm>
            <a:off x="1914480" y="4159080"/>
            <a:ext cx="1352520" cy="1662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1523880"/>
            <a:ext cx="76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, 20 – 50 % or our total supply of the following it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4" descr="j0232628"/>
          <p:cNvPicPr/>
          <p:nvPr/>
        </p:nvPicPr>
        <p:blipFill>
          <a:blip r:embed="rId4"/>
          <a:stretch/>
        </p:blipFill>
        <p:spPr>
          <a:xfrm>
            <a:off x="6553080" y="3733920"/>
            <a:ext cx="1951200" cy="190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j0199312"/>
          <p:cNvPicPr/>
          <p:nvPr/>
        </p:nvPicPr>
        <p:blipFill>
          <a:blip r:embed="rId5"/>
          <a:stretch/>
        </p:blipFill>
        <p:spPr>
          <a:xfrm>
            <a:off x="4191120" y="3733920"/>
            <a:ext cx="172692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11EC0BC-D6B3-44AB-814B-3093F12501E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IMPORTING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pic>
        <p:nvPicPr>
          <p:cNvPr id="142" name="Picture 1028" descr=""/>
          <p:cNvPicPr/>
          <p:nvPr/>
        </p:nvPicPr>
        <p:blipFill>
          <a:blip r:embed="rId1"/>
          <a:stretch/>
        </p:blipFill>
        <p:spPr>
          <a:xfrm>
            <a:off x="714240" y="1752480"/>
            <a:ext cx="771552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A886B25-3028-408A-A23C-93100426789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24"/>
                </a:solidFill>
                <a:latin typeface="Arial"/>
              </a:rPr>
              <a:t>MEASURING TRADE RELATIONS</a:t>
            </a:r>
            <a:endParaRPr b="1" lang="en-US" sz="40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amount of money that comes in and leaves 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(favorable)/ Negative (unfavo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 country’s total imports &amp;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Trade deficit/Trade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15Z</dcterms:created>
  <dc:creator>M. C. McLaughlin</dc:creator>
  <dc:description/>
  <dc:language>en-US</dc:language>
  <cp:lastModifiedBy>test</cp:lastModifiedBy>
  <cp:lastPrinted>2006-10-04T12:01:19Z</cp:lastPrinted>
  <dcterms:modified xsi:type="dcterms:W3CDTF">2012-11-12T14:40:26Z</dcterms:modified>
  <cp:revision>19</cp:revision>
  <dc:subject/>
  <dc:title>Chapter 3 Business in the Global Economy</dc:title>
</cp:coreProperties>
</file>