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12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9.jpeg" ContentType="image/jpeg"/>
  <Override PartName="/ppt/media/image2.png" ContentType="image/png"/>
  <Override PartName="/ppt/media/image22.gif" ContentType="image/gif"/>
  <Override PartName="/ppt/media/image28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15.wmf" ContentType="image/x-wmf"/>
  <Override PartName="/ppt/media/image14.jpeg" ContentType="image/jpeg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30.gif" ContentType="image/gif"/>
  <Override PartName="/ppt/media/image23.png" ContentType="image/png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41A8-38F9-41F3-9792-A2A0F895D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60D6-40A0-45BF-BC08-C3DE7767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CE44-481A-42F9-B699-610AA94A6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D78E-DF74-4862-B5A3-A91C8C171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AD66-4AE3-41A1-8F0D-1D3627997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2FA2-46A8-4ABD-BD56-1871EB825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8D7F-A0A9-4119-B406-06494DF70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9A6E-384D-4721-98E5-9171F3EE2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7FDB4-6A11-4835-91CF-CA058F2657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D2824-33CD-4C9B-91B9-53BB19C419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213A4-7A62-4AE2-AF6E-578204F04F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5E95D-E6A8-4CEC-84C6-113D11B47C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EDA00-29A1-424F-B9B3-4A39AD2EC3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4914E-EB6D-453B-9050-EB189DFACA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A0B27-4492-436C-8859-7CDCF0490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6FC6-9881-4257-BB5D-7A1B00702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26B69-C9DE-4301-A8FD-5F90B68F31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7D92E-EDA1-4B3F-B4B1-6EAB884AC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E18DF-E0BA-4B7D-9A56-574C026A6C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82D7E-979B-441F-8592-7DAE9D1B1E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8307B-BB60-4093-9DF3-AD3A0CFCF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7042-CC87-420C-897C-D4E5335B6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041B-08D9-4436-AA8A-B193A0FE4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63F5-CF18-4DA2-AEE2-42033DA41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C0C8-9083-4EEC-A933-123E09727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42C8-03EB-49FE-86C9-A93B9C7D3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B306-2F9A-48AF-851A-6BF657A0B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2702-C87D-4264-B351-89E3F0AF5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0AE858E-BA50-4701-BE3C-2A4EBC117DB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8A00A4E-B018-4E08-8117-80CC44E55A5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mericanexpress.com/au/content/careers/culture.html" TargetMode="External"/><Relationship Id="rId2" Type="http://schemas.openxmlformats.org/officeDocument/2006/relationships/hyperlink" Target="http://www.mcall.com/news/breaking/mc-c-salisbury-school-thefts-arrest-20121126,0,5383198.story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cur.org/post/low-water-flow-causes-freight-problems-mississippi-river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pa.gov/" TargetMode="External"/><Relationship Id="rId2" Type="http://schemas.openxmlformats.org/officeDocument/2006/relationships/hyperlink" Target="http://www.ada.gov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cial Responsibility of Business and Gover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1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2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Government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Protec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3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Government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Regulation and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853000" y="304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E09B3C7-7C50-44F0-A8AE-5D1E0BAF108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BUSINESS ETHICS</a:t>
            </a: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- rules about how businesses and their employees ought to behave.  </a:t>
            </a:r>
            <a:br>
              <a:rPr sz="1400"/>
            </a:b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Ethics are rules of conduct</a:t>
            </a:r>
            <a:endParaRPr b="1" lang="en-US" sz="1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of ethics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set of rules for guiding the actions of employees or members of an organiza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must be worded in terms of acceptable behavior rather than forbidden action.  Can be trick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Should a company expand into a profitable market in another country where doing business requires giving expensive gifts to key government officials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Should a company continue to produce a popular product after it discovers a minor defect in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American Express Blue Box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ical conduct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s who show strong moral character and make ethical business decisions set the ethical standards for a busines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et up educational programs to promote honesty and integrity ranging from personal phone calls during work hours to taking supplies for personal use </a:t>
            </a:r>
            <a:r>
              <a:rPr b="0" lang="en-US" sz="1400" spc="-1" strike="noStrike" u="sng">
                <a:solidFill>
                  <a:srgbClr val="007ac1"/>
                </a:solidFill>
                <a:uFillTx/>
                <a:latin typeface="Arial"/>
                <a:hlinkClick r:id="rId2"/>
              </a:rPr>
              <a:t>(Stea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elines to follow when considering if something is ethical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action legal?  Who is affected by the action and how?  Does the action violate professional or company standar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lict of interest is when an action by a company or person results in an unfair benef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 Person serving on the board of directors required that the company buy items only from businesses that he owns or contro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6DD8221-78FA-4431-91F4-645B0BEC058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urpose of a code of eth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102B55C-E648-40D8-929E-FBA6BD0A3F5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2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Protection Activiti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oles and levels of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government protection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ypes of intellectual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287F3E9-15F9-4AA2-8411-5FD07F56BE9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7DAD848-40CF-464D-8DB2-CD0DC463717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IN SOCIE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services for member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ng citizens, consumers, businesses, and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utilities and promoting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information and support to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public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ing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0" descr="C:\Documents and Settings\30800\Local Settings\Temporary Internet Files\Content.IE5\CRSJFY9F\MP900441058[1].jpg"/>
          <p:cNvPicPr/>
          <p:nvPr/>
        </p:nvPicPr>
        <p:blipFill>
          <a:blip r:embed="rId1"/>
          <a:stretch/>
        </p:blipFill>
        <p:spPr>
          <a:xfrm>
            <a:off x="8077320" y="186696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C:\Documents and Settings\30800\Local Settings\Temporary Internet Files\Content.IE5\D89UTEWN\MC900149345[1].wmf"/>
          <p:cNvPicPr/>
          <p:nvPr/>
        </p:nvPicPr>
        <p:blipFill>
          <a:blip r:embed="rId2"/>
          <a:stretch/>
        </p:blipFill>
        <p:spPr>
          <a:xfrm>
            <a:off x="4343400" y="5105520"/>
            <a:ext cx="23972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211E291-7658-4B3E-BB53-2C9F6584362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IN SOCIE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0" descr="C:\Documents and Settings\30800\Local Settings\Temporary Internet Files\Content.IE5\E0DQETNK\MC900436222[1].png"/>
          <p:cNvPicPr/>
          <p:nvPr/>
        </p:nvPicPr>
        <p:blipFill>
          <a:blip r:embed="rId1"/>
          <a:stretch/>
        </p:blipFill>
        <p:spPr>
          <a:xfrm>
            <a:off x="5181480" y="2286000"/>
            <a:ext cx="280188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692D302-D9E7-467C-98E2-0E3FA8EFCF6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FEDERAL GOVER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sees the activities that involve two or more states or other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foreign and interstate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Interstate Comme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alings involves companies in more than one state.  (I 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3" descr="C:\Documents and Settings\30800\Local Settings\Temporary Internet Files\Content.IE5\GP8LJUVI\MC900071454[1].wmf"/>
          <p:cNvPicPr/>
          <p:nvPr/>
        </p:nvPicPr>
        <p:blipFill>
          <a:blip r:embed="rId2"/>
          <a:stretch/>
        </p:blipFill>
        <p:spPr>
          <a:xfrm>
            <a:off x="2514600" y="4952880"/>
            <a:ext cx="3162240" cy="201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D5DDC77-74B3-4035-A926-E09161E9733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TATE GOVERNMEN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business actions within their own 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some of their legislative power to local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0024"/>
                </a:solidFill>
                <a:latin typeface="Arial"/>
              </a:rPr>
              <a:t>Intrastate Commer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business dealings involving companies that do business in only one state.  (PA-5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C:\Documents and Settings\30800\Local Settings\Temporary Internet Files\Content.IE5\GP8LJUVI\MP900289009[1].jpg"/>
          <p:cNvPicPr/>
          <p:nvPr/>
        </p:nvPicPr>
        <p:blipFill>
          <a:blip r:embed="rId1"/>
          <a:stretch/>
        </p:blipFill>
        <p:spPr>
          <a:xfrm>
            <a:off x="7315200" y="380880"/>
            <a:ext cx="2209680" cy="14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2C9E58F-0E72-41CB-B4E0-7AAE3E5E251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LOCAL GOVERNMEN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county boards and city or town counc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s needed for an orderly society, such as police and fire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C:\Documents and Settings\30800\Local Settings\Temporary Internet Files\Content.IE5\CRSJFY9F\MC900196420[1].wmf"/>
          <p:cNvPicPr/>
          <p:nvPr/>
        </p:nvPicPr>
        <p:blipFill>
          <a:blip r:embed="rId1"/>
          <a:stretch/>
        </p:blipFill>
        <p:spPr>
          <a:xfrm>
            <a:off x="2362320" y="4495680"/>
            <a:ext cx="1784160" cy="1784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C:\Documents and Settings\30800\Local Settings\Temporary Internet Files\Content.IE5\GP8LJUVI\MP900422851[1].jpg"/>
          <p:cNvPicPr/>
          <p:nvPr/>
        </p:nvPicPr>
        <p:blipFill>
          <a:blip r:embed="rId2"/>
          <a:stretch/>
        </p:blipFill>
        <p:spPr>
          <a:xfrm>
            <a:off x="5486400" y="411480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903780-2F6E-4FCF-9015-C0F5C7776C2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hree levels of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9FDCF59-831C-4AAF-8735-43F9DDE8289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1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ocial responsibility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benefits and costs of social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code of eth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6267EE6-903C-4EED-9AF5-F655CF40D50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GOVERNMENT PROTECTION ACTIVITIES</a:t>
            </a:r>
            <a:endParaRPr b="1" lang="en-US" sz="2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worker you have a basic right to safe working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inspections and regulations or work areas help reduce the number of job-related acci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 and personal biases must NOT affect a hiring d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is an agreement to exchange goods or services for something of value, usually mone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written or un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24" descr="C:\Documents and Settings\30800\Local Settings\Temporary Internet Files\Content.IE5\I4A0DTRU\MC900287443[1].wmf"/>
          <p:cNvPicPr/>
          <p:nvPr/>
        </p:nvPicPr>
        <p:blipFill>
          <a:blip r:embed="rId1"/>
          <a:stretch/>
        </p:blipFill>
        <p:spPr>
          <a:xfrm>
            <a:off x="7238880" y="-11160"/>
            <a:ext cx="2087640" cy="1979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25" descr="C:\Documents and Settings\30800\Local Settings\Temporary Internet Files\Content.IE5\E0DQETNK\MC900295567[1].wmf"/>
          <p:cNvPicPr/>
          <p:nvPr/>
        </p:nvPicPr>
        <p:blipFill>
          <a:blip r:embed="rId2"/>
          <a:stretch/>
        </p:blipFill>
        <p:spPr>
          <a:xfrm>
            <a:off x="6504120" y="4321080"/>
            <a:ext cx="146988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5B9F073-2989-4544-B2FD-4370097A76C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ontract Basics cont.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Agre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 offer must be made and an acceptance must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Competent Parties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legal age and mentally compe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Consid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mething of measurable value must be ex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Leg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duct or service legally sold. No fraud or deception exists in the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C:\Documents and Settings\30800\Local Settings\Temporary Internet Files\Content.IE5\CRSJFY9F\MC900384428[1].wmf"/>
          <p:cNvPicPr/>
          <p:nvPr/>
        </p:nvPicPr>
        <p:blipFill>
          <a:blip r:embed="rId1"/>
          <a:stretch/>
        </p:blipFill>
        <p:spPr>
          <a:xfrm>
            <a:off x="-457200" y="5029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30800\Local Settings\Temporary Internet Files\Content.IE5\OLEBDURU\MP900386219[1].jpg"/>
          <p:cNvPicPr/>
          <p:nvPr/>
        </p:nvPicPr>
        <p:blipFill>
          <a:blip r:embed="rId2"/>
          <a:stretch/>
        </p:blipFill>
        <p:spPr>
          <a:xfrm>
            <a:off x="7924680" y="1557360"/>
            <a:ext cx="203220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17EADFC-6D48-4178-8ADB-5ED45B46B9D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elements of a con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5A4BAE4-E3F0-4601-9B92-BE8889E4F64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024"/>
                </a:solidFill>
                <a:latin typeface="Arial"/>
              </a:rPr>
              <a:t>PROTECTION OF INTELLECTUAL PROPERTY-</a:t>
            </a:r>
            <a:br>
              <a:rPr sz="3600"/>
            </a:b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is purely intangible with no physical characteristics</a:t>
            </a:r>
            <a:endParaRPr b="1" lang="en-US" sz="2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Pat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ives the inventor sole right to make, use, or sell the item for 17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Copy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otects the creative work of authors, composers, and art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Trademar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ord letter or symbol linked with a specific company or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:\Documents and Settings\30800\Local Settings\Temporary Internet Files\Content.IE5\XAST5BE9\MC900154506[1].wmf"/>
          <p:cNvPicPr/>
          <p:nvPr/>
        </p:nvPicPr>
        <p:blipFill>
          <a:blip r:embed="rId1"/>
          <a:stretch/>
        </p:blipFill>
        <p:spPr>
          <a:xfrm>
            <a:off x="7489800" y="4800600"/>
            <a:ext cx="1730520" cy="1262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30800\Local Settings\Temporary Internet Files\Content.IE5\D89UTEWN\MM900178308[1].gif"/>
          <p:cNvPicPr/>
          <p:nvPr/>
        </p:nvPicPr>
        <p:blipFill>
          <a:blip r:embed="rId2"/>
          <a:stretch/>
        </p:blipFill>
        <p:spPr>
          <a:xfrm>
            <a:off x="0" y="2971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3"/>
          <a:stretch/>
        </p:blipFill>
        <p:spPr>
          <a:xfrm>
            <a:off x="3048120" y="5132520"/>
            <a:ext cx="2146320" cy="101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4D8C112-902D-4EDD-B7DA-8F6CA004A04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ree types of intellectual prop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79CC769-5433-48AA-AAE8-1A0DDC997FF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3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Regulation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and Assistanc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6828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actions by government to regulate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efforts of government to assist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ethods used by government to rais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4A061A4-D312-4EF1-A4D7-C83D05929D0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rus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04A566A-42EC-482A-BCEE-C88EABBC768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024"/>
                </a:solidFill>
                <a:latin typeface="Arial"/>
              </a:rPr>
              <a:t>REGULATORY ACTIVITIES</a:t>
            </a:r>
            <a:br>
              <a:rPr sz="2000"/>
            </a:br>
            <a:r>
              <a:rPr b="1" lang="en-US" sz="1600" spc="-1" strike="noStrike">
                <a:solidFill>
                  <a:srgbClr val="e00024"/>
                </a:solidFill>
                <a:latin typeface="Arial"/>
              </a:rPr>
              <a:t>Business activity in the US is structured by the producers and consumers but government DOES get involved in some areas such as:</a:t>
            </a:r>
            <a:endParaRPr b="1" lang="en-US" sz="16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of 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00024"/>
                </a:solidFill>
                <a:latin typeface="Arial"/>
              </a:rPr>
              <a:t>Public ut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organization that supplies a service or product vital to all people (EX: water and elec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regulates these companies and the rates they charge have to be approved by government agenc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toward a deregulation where competition can be int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unfa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attempts to promote fair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poly exists when a business has control of the market for a product or service (PRICES ---HIG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etition is present then the consumers get the best values at a fair pr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00024"/>
                </a:solidFill>
                <a:latin typeface="Arial"/>
              </a:rPr>
              <a:t>Antitrust law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vent unfair business practices such as false advertising, deceptive pricing, misleading lab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24" descr="C:\Documents and Settings\30800\Local Settings\Temporary Internet Files\Content.IE5\GP8LJUVI\MC900089816[1].wmf"/>
          <p:cNvPicPr/>
          <p:nvPr/>
        </p:nvPicPr>
        <p:blipFill>
          <a:blip r:embed="rId1"/>
          <a:stretch/>
        </p:blipFill>
        <p:spPr>
          <a:xfrm>
            <a:off x="7467480" y="-152280"/>
            <a:ext cx="1812960" cy="1338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25" descr="C:\Documents and Settings\30800\Local Settings\Temporary Internet Files\Content.IE5\D89UTEWN\MC900056835[1].wmf"/>
          <p:cNvPicPr/>
          <p:nvPr/>
        </p:nvPicPr>
        <p:blipFill>
          <a:blip r:embed="rId2"/>
          <a:stretch/>
        </p:blipFill>
        <p:spPr>
          <a:xfrm>
            <a:off x="7934400" y="3124080"/>
            <a:ext cx="1738080" cy="177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01A2E60-B0B0-4502-9DA5-5E5183B3594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government regulate ut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4268466-C9BF-4128-8397-001E8FBED8D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GOVERNMENT ASSISTS BUSINESS</a:t>
            </a:r>
            <a:br>
              <a:rPr sz="2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Data gathered by government such as census can help businesses with planning or potential customers in a certain area.</a:t>
            </a:r>
            <a:br>
              <a:rPr sz="1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Can also help provide loans or financial aid due to flooding, hardship, droughts.</a:t>
            </a:r>
            <a:endParaRPr b="1" lang="en-US" sz="1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uys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evels of government make up about 20% of all the goods and services produced in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usinesses depend on government contracts (EX: govt. pays businesses to construct highways and build sch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employs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largest employer in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f every 9 workers is a public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defenders, meat inspectors, teachers are 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C:\Documents and Settings\30800\Local Settings\Temporary Internet Files\Content.IE5\CRSJFY9F\MC900089228[1].wmf"/>
          <p:cNvPicPr/>
          <p:nvPr/>
        </p:nvPicPr>
        <p:blipFill>
          <a:blip r:embed="rId1"/>
          <a:stretch/>
        </p:blipFill>
        <p:spPr>
          <a:xfrm>
            <a:off x="7924680" y="990720"/>
            <a:ext cx="1095480" cy="977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C:\Documents and Settings\30800\Local Settings\Temporary Internet Files\Content.IE5\GP8LJUVI\MC900060195[1].wmf"/>
          <p:cNvPicPr/>
          <p:nvPr/>
        </p:nvPicPr>
        <p:blipFill>
          <a:blip r:embed="rId2"/>
          <a:stretch/>
        </p:blipFill>
        <p:spPr>
          <a:xfrm>
            <a:off x="1905120" y="5334120"/>
            <a:ext cx="1631880" cy="167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:\Documents and Settings\30800\Local Settings\Temporary Internet Files\Content.IE5\CRSJFY9F\MC900056116[1].wmf"/>
          <p:cNvPicPr/>
          <p:nvPr/>
        </p:nvPicPr>
        <p:blipFill>
          <a:blip r:embed="rId3"/>
          <a:stretch/>
        </p:blipFill>
        <p:spPr>
          <a:xfrm>
            <a:off x="4191120" y="5457960"/>
            <a:ext cx="1788840" cy="142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9164C96-3F3E-4913-A418-9D73085E95F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newable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of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5E235DB-A807-4EF6-B0D8-26B63DCBA4D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government assist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657D564-2717-47BE-A2A4-EB452E75868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GOVERNMENT RAISES MONEY</a:t>
            </a:r>
            <a:br>
              <a:rPr sz="2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must have a way to fund  operations and pay wages to workers</a:t>
            </a:r>
            <a:br>
              <a:rPr sz="1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Fines for traffic violations; fees and licenses provide revenue </a:t>
            </a:r>
            <a:endParaRPr b="1" lang="en-US" sz="1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 tax- the more you make the more they 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tax- value of land and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- tax on goods and services (PA –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ing taxes is a duty of citizens and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 borrows by selling bon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you buy a bond, you are helping to fund services provided by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nds issued by the government are backed by the “full faith and credit” of the federal government and they become a debtor and must pay back bond with inter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0" descr="C:\Documents and Settings\30800\Local Settings\Temporary Internet Files\Content.IE5\GP8LJUVI\MC900287372[1].wmf"/>
          <p:cNvPicPr/>
          <p:nvPr/>
        </p:nvPicPr>
        <p:blipFill>
          <a:blip r:embed="rId1"/>
          <a:stretch/>
        </p:blipFill>
        <p:spPr>
          <a:xfrm>
            <a:off x="6858000" y="1752480"/>
            <a:ext cx="2174760" cy="1754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" descr="C:\Documents and Settings\30800\Local Settings\Temporary Internet Files\Content.IE5\E0DQETNK\MM900395692[1].gif"/>
          <p:cNvPicPr/>
          <p:nvPr/>
        </p:nvPicPr>
        <p:blipFill>
          <a:blip r:embed="rId2"/>
          <a:stretch/>
        </p:blipFill>
        <p:spPr>
          <a:xfrm>
            <a:off x="4724280" y="55627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47CE7C2-2DE1-4B33-9F3B-03FDD11E572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tax revenue and borrowing by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B974879-FF91-4A38-8385-022C38A69BB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SOCIAL RESPONSIBILITY ISSUE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s to the duty of a business to contribute to the well being of a communit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roadened social responsibility of business calls for more attention to social concerns such as:</a:t>
            </a:r>
            <a:br>
              <a:rPr sz="1800"/>
            </a:br>
            <a:endParaRPr b="1" lang="en-US" sz="16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rvation- saving scarce natural resources (Goal for many compan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an’t be replaced which is called a non-renewable resource (IE: Gas, Oil, Cop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cially responsible business takes action to improve or change operations that cause pol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Environmental Protection Agency (EP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s and enforces water and air quality standards set forth by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place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es are more and more sensitive to the role of women, ethnic groups, the physically challenged, and older wor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challenge involves learning how to manage a work force made up of the diverse cultures in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ac1"/>
                </a:solidFill>
                <a:uFillTx/>
                <a:latin typeface="Arial"/>
                <a:hlinkClick r:id="rId2"/>
              </a:rPr>
              <a:t>American with Disabilities Act (AD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caused major improvements to be made toward accommodating workers who are physically challeng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Discrimination in Employment Act bars employers from using age as a basis for employment decisiongs (hiring, promotions, or terminations).  Protects persons aged 40 and 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Documents and Settings\30800\Local Settings\Temporary Internet Files\Content.IE5\CRSJFY9F\MM900318135[1].gif"/>
          <p:cNvPicPr/>
          <p:nvPr/>
        </p:nvPicPr>
        <p:blipFill>
          <a:blip r:embed="rId3"/>
          <a:stretch/>
        </p:blipFill>
        <p:spPr>
          <a:xfrm>
            <a:off x="822312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Documents and Settings\30800\Local Settings\Temporary Internet Files\Content.IE5\D89UTEWN\MP900411830[1].jpg"/>
          <p:cNvPicPr/>
          <p:nvPr/>
        </p:nvPicPr>
        <p:blipFill>
          <a:blip r:embed="rId4"/>
          <a:stretch/>
        </p:blipFill>
        <p:spPr>
          <a:xfrm>
            <a:off x="-228600" y="3962520"/>
            <a:ext cx="130320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83B95C9-26DB-48FE-B944-4291E6151B9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0024"/>
                </a:solidFill>
                <a:latin typeface="Arial"/>
              </a:rPr>
              <a:t>SOCIAL RESPONSIBILITY ISSUES cont.</a:t>
            </a: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should be able to work in an office or factory free from the risks that could cause acci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environment should provide full protection from fire and other haz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need to know how to manage the unexp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ty also involves employee training in how to work safely and what to do in case of an emer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mployers have put a variety of programs into practice to protec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and State governments have passed laws to make the workplace sa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Safety and Health Administration regulates and enforces safety stand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we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healthy workforce is a productive workfo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es do a number of things to promote a healthy lifestyle like stop smoking seminars, weight loss programs, and counseling for employees with drug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uses that relate to employee well-being are often included in labor contracts and company policy manu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clauses are conditions or work that pertain to the health and safety of employees while on the jo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companies sponsor sports teams and encourage employees to take p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Documents and Settings\30800\Local Settings\Temporary Internet Files\Content.IE5\XAST5BE9\MC900097825[1].wmf"/>
          <p:cNvPicPr/>
          <p:nvPr/>
        </p:nvPicPr>
        <p:blipFill>
          <a:blip r:embed="rId1"/>
          <a:stretch/>
        </p:blipFill>
        <p:spPr>
          <a:xfrm>
            <a:off x="7010280" y="-304920"/>
            <a:ext cx="1795680" cy="177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30800\Local Settings\Temporary Internet Files\Content.IE5\E0DQETNK\MP900448610[1].jpg"/>
          <p:cNvPicPr/>
          <p:nvPr/>
        </p:nvPicPr>
        <p:blipFill>
          <a:blip r:embed="rId2"/>
          <a:stretch/>
        </p:blipFill>
        <p:spPr>
          <a:xfrm>
            <a:off x="-27000" y="350532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1825D62-7FE6-4CA0-8FF2-BAEEC69B50B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our areas of social responsibility that may require the attention of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8E37D34-7037-4B83-A38C-46FE3D84466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 EVALUA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justice for groups of a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company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need for governmen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quality of life in a community an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wareness of social issues among workers, consumers,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0" descr="C:\Documents and Settings\30800\Local Settings\Temporary Internet Files\Content.IE5\XAST5BE9\MC900045079[1].wmf"/>
          <p:cNvPicPr/>
          <p:nvPr/>
        </p:nvPicPr>
        <p:blipFill>
          <a:blip r:embed="rId1"/>
          <a:stretch/>
        </p:blipFill>
        <p:spPr>
          <a:xfrm>
            <a:off x="7620120" y="822240"/>
            <a:ext cx="1784160" cy="173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33AC9F0-C54C-469F-A73C-07B359987A9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 EVALUA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onpolluting or safer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repairs to remove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ness and rehabilita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rojects sponsored by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4"/>
                </a:solidFill>
                <a:latin typeface="Arial"/>
              </a:rPr>
              <a:t>Spending on social programs must be at a suitable level so a business can still earn a reasonable prof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C:\Documents and Settings\30800\Local Settings\Temporary Internet Files\Content.IE5\RM2FJ5LU\MP900422746[1].jpg"/>
          <p:cNvPicPr/>
          <p:nvPr/>
        </p:nvPicPr>
        <p:blipFill>
          <a:blip r:embed="rId1"/>
          <a:stretch/>
        </p:blipFill>
        <p:spPr>
          <a:xfrm>
            <a:off x="7128000" y="1879560"/>
            <a:ext cx="2206440" cy="220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7C4C39B-86D9-488E-8FA3-78E14B17DFE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benefits of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16:20Z</dcterms:created>
  <dc:creator>M. C. McLaughlin</dc:creator>
  <dc:description/>
  <dc:language>en-US</dc:language>
  <cp:lastModifiedBy>test</cp:lastModifiedBy>
  <dcterms:modified xsi:type="dcterms:W3CDTF">2013-11-22T18:14:14Z</dcterms:modified>
  <cp:revision>20</cp:revision>
  <dc:subject/>
  <dc:title>Chapter 4 Social Responsibility of Business and Government</dc:title>
</cp:coreProperties>
</file>