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2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2.gif" ContentType="image/gif"/>
  <Override PartName="/ppt/media/image28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5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30.gif" ContentType="image/gif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534-152F-4CED-89E6-2F5E90E6F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14C-03FB-420C-ABDF-7F6D0EE1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E25E-92DC-4509-B510-B659D8A11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F1A1-70D2-49BA-8160-1FDB1E2C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40AD-2E9F-47ED-AA26-1E0F612C1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324A-A444-4811-BD52-3B019295D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ECAB-D353-466E-8B1F-65BAF77D4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0633-77A6-4F08-B613-E92AE2454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5602F-0B74-43DE-AA5A-51AA7091B6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19754-0DE8-4D12-A2C8-7957A74A5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805A1-6D3A-4926-AD57-C62858E41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E374D-8E26-4406-8682-DACA0FEBF4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16E66-3960-4528-B108-E806CE311C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4A204-EC58-4B5E-9357-F0B31FDEB3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E23E3-667F-4510-A44A-E337E28D7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063A-6BF9-4990-8C15-D9C7FB960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963B-6F36-4222-A563-A3569E449A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C26AE-2182-4027-B094-B375AFD6D0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BBA4-FCF1-4343-8462-E20A4D0FE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C0D9-CA36-4A0F-977E-AC16B82DF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C3C02-D583-48D3-ADD5-F9CEB11B5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334B-3C12-46D1-91E3-AA879DAAA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39D6-1975-4024-9FCB-5C51C7C01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B5A9-45CE-49FA-BC5A-18FBD5EC6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0524-86DA-488E-880F-2CEE68074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EB8B-4C80-4453-AC48-76EB28F2C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DC65-3DA0-4616-ADD6-F75C68705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C385-D8BE-4FCD-9FCA-C44196CF2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5CF7594-C4BE-4765-B7AB-B5BE2788B3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39BCEB4-3588-415D-9495-A69A4226D5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ericanexpress.com/au/content/careers/culture.html" TargetMode="External"/><Relationship Id="rId2" Type="http://schemas.openxmlformats.org/officeDocument/2006/relationships/hyperlink" Target="http://www.mcall.com/news/breaking/mc-c-salisbury-school-thefts-arrest-20121126,0,5383198.story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cur.org/post/low-water-flow-causes-freight-problems-mississippi-rive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hyperlink" Target="http://www.ada.gov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cial Responsibility of Business and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rote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Regulation and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22A55F3-A07C-4DC7-98BF-2EA8F521079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BUSINESS ETHICS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- rules about how businesses and their employees ought to behave.  </a:t>
            </a:r>
            <a:br>
              <a:rPr sz="1400"/>
            </a:b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Ethics are rules of conduct</a:t>
            </a:r>
            <a:endParaRPr b="1" lang="en-US" sz="1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of ethics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set of rules for guiding the actions of employees or members of an organiz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must be worded in terms of acceptable behavior rather than forbidden action.  Can be trick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expand into a profitable market in another country where doing business requires giving expensive gifts to key government officials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continue to produce a popular product after it discovers a minor defect in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American Express Blue Box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cal conduct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s who show strong moral character and make ethical business decisions set the ethical standards for a busin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et up educational programs to promote honesty and integrity ranging from personal phone calls during work hours to taking supplies for personal use </a:t>
            </a: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(Stea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 to follow when considering if something is ethical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action legal?  Who is affected by the action and how?  Does the action violate professional or company standar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ct of interest is when an action by a company or person results in an unfair bene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 Person serving on the board of directors required that the company buy items only from businesses that he owns or contr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ADE1C6-35AE-430C-9100-FF74DF99416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code of eth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070908C-7A1E-463B-857F-87DCCD93335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s and level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government protectio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ypes of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B1A2DBC-5E01-41CE-81B8-1077CA3C463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C7941BA-5A77-4DDD-89CF-0A09509A696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services for member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ng citizens, consumers, businesses,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utilities and promoting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and support to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public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0" descr="C:\Documents and Settings\30800\Local Settings\Temporary Internet Files\Content.IE5\CRSJFY9F\MP900441058[1].jpg"/>
          <p:cNvPicPr/>
          <p:nvPr/>
        </p:nvPicPr>
        <p:blipFill>
          <a:blip r:embed="rId1"/>
          <a:stretch/>
        </p:blipFill>
        <p:spPr>
          <a:xfrm>
            <a:off x="8077320" y="186696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30800\Local Settings\Temporary Internet Files\Content.IE5\D89UTEWN\MC900149345[1].wmf"/>
          <p:cNvPicPr/>
          <p:nvPr/>
        </p:nvPicPr>
        <p:blipFill>
          <a:blip r:embed="rId2"/>
          <a:stretch/>
        </p:blipFill>
        <p:spPr>
          <a:xfrm>
            <a:off x="4343400" y="5105520"/>
            <a:ext cx="23972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445192-9119-4B63-ABAB-1E577BC3937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0" descr="C:\Documents and Settings\30800\Local Settings\Temporary Internet Files\Content.IE5\E0DQETNK\MC900436222[1].png"/>
          <p:cNvPicPr/>
          <p:nvPr/>
        </p:nvPicPr>
        <p:blipFill>
          <a:blip r:embed="rId1"/>
          <a:stretch/>
        </p:blipFill>
        <p:spPr>
          <a:xfrm>
            <a:off x="5181480" y="2286000"/>
            <a:ext cx="280188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7E713AD-FAD1-4729-994B-EF3B249B719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EDERAL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s the activities that involve two or more states or other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oreign and interstate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Interstate Comme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lings involves companies in more than one state.  (I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C:\Documents and Settings\30800\Local Settings\Temporary Internet Files\Content.IE5\GP8LJUVI\MC900071454[1].wmf"/>
          <p:cNvPicPr/>
          <p:nvPr/>
        </p:nvPicPr>
        <p:blipFill>
          <a:blip r:embed="rId2"/>
          <a:stretch/>
        </p:blipFill>
        <p:spPr>
          <a:xfrm>
            <a:off x="2514600" y="4952880"/>
            <a:ext cx="3162240" cy="20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E721462-C651-4111-81BC-F1604319070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TATE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 actions within their own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some of their legislative power to local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0024"/>
                </a:solidFill>
                <a:latin typeface="Arial"/>
              </a:rPr>
              <a:t>Intrastate Commer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business dealings involving companies that do business in only one state.  (PA-5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:\Documents and Settings\30800\Local Settings\Temporary Internet Files\Content.IE5\GP8LJUVI\MP900289009[1].jpg"/>
          <p:cNvPicPr/>
          <p:nvPr/>
        </p:nvPicPr>
        <p:blipFill>
          <a:blip r:embed="rId1"/>
          <a:stretch/>
        </p:blipFill>
        <p:spPr>
          <a:xfrm>
            <a:off x="7315200" y="380880"/>
            <a:ext cx="2209680" cy="14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7D8C1ED-7FF8-4DB0-BA88-AA6ED585B9E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OCAL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unty boards and city or town counc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s needed for an orderly society, such as police and 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C:\Documents and Settings\30800\Local Settings\Temporary Internet Files\Content.IE5\CRSJFY9F\MC900196420[1].wmf"/>
          <p:cNvPicPr/>
          <p:nvPr/>
        </p:nvPicPr>
        <p:blipFill>
          <a:blip r:embed="rId1"/>
          <a:stretch/>
        </p:blipFill>
        <p:spPr>
          <a:xfrm>
            <a:off x="2362320" y="4495680"/>
            <a:ext cx="1784160" cy="178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:\Documents and Settings\30800\Local Settings\Temporary Internet Files\Content.IE5\GP8LJUVI\MP900422851[1].jpg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76BEDF8-A195-4DCD-B666-52B54016E5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levels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48157EC-4135-4557-8334-5141DB0252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1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ocial responsibility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enefits and costs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code of et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0655FF0-1EE4-4A2B-AC92-485FBC37B7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worker you have a basic right to safe work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spections and regulations or work areas help reduce the number of job-related acc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and personal biases must NOT affect a hiring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an agreement to exchange goods or services for something of value, usually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written or un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24" descr="C:\Documents and Settings\30800\Local Settings\Temporary Internet Files\Content.IE5\I4A0DTRU\MC900287443[1].wmf"/>
          <p:cNvPicPr/>
          <p:nvPr/>
        </p:nvPicPr>
        <p:blipFill>
          <a:blip r:embed="rId1"/>
          <a:stretch/>
        </p:blipFill>
        <p:spPr>
          <a:xfrm>
            <a:off x="7238880" y="-11160"/>
            <a:ext cx="2087640" cy="197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5" descr="C:\Documents and Settings\30800\Local Settings\Temporary Internet Files\Content.IE5\E0DQETNK\MC900295567[1].wmf"/>
          <p:cNvPicPr/>
          <p:nvPr/>
        </p:nvPicPr>
        <p:blipFill>
          <a:blip r:embed="rId2"/>
          <a:stretch/>
        </p:blipFill>
        <p:spPr>
          <a:xfrm>
            <a:off x="6504120" y="4321080"/>
            <a:ext cx="146988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6E2254-22C8-4DD4-BFE8-66FEF777CC5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ntract Basics cont.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offer must be made and an acceptance mus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mpetent Partie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legal age and mentally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mething of measurable value must be ex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Leg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duct or service legally sold. No fraud or deception exists in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Documents and Settings\30800\Local Settings\Temporary Internet Files\Content.IE5\CRSJFY9F\MC900384428[1].wmf"/>
          <p:cNvPicPr/>
          <p:nvPr/>
        </p:nvPicPr>
        <p:blipFill>
          <a:blip r:embed="rId1"/>
          <a:stretch/>
        </p:blipFill>
        <p:spPr>
          <a:xfrm>
            <a:off x="-457200" y="5029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30800\Local Settings\Temporary Internet Files\Content.IE5\OLEBDURU\MP900386219[1].jpg"/>
          <p:cNvPicPr/>
          <p:nvPr/>
        </p:nvPicPr>
        <p:blipFill>
          <a:blip r:embed="rId2"/>
          <a:stretch/>
        </p:blipFill>
        <p:spPr>
          <a:xfrm>
            <a:off x="7924680" y="155736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8E3B821-EB9B-477C-B515-6448E2D8755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elements of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7DF6030-442A-4EDA-946E-F8D8D8E1282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24"/>
                </a:solidFill>
                <a:latin typeface="Arial"/>
              </a:rPr>
              <a:t>PROTECTION OF INTELLECTUAL PROPERTY-</a:t>
            </a:r>
            <a:br>
              <a:rPr sz="3600"/>
            </a:b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is purely intangible with no physical characteristic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Pat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ives the inventor sole right to make, use, or sell the item for 17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Copy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tects the creative work of authors, composers, and ar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Tradema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ord letter or symbol linked with a specific company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:\Documents and Settings\30800\Local Settings\Temporary Internet Files\Content.IE5\XAST5BE9\MC900154506[1].wmf"/>
          <p:cNvPicPr/>
          <p:nvPr/>
        </p:nvPicPr>
        <p:blipFill>
          <a:blip r:embed="rId1"/>
          <a:stretch/>
        </p:blipFill>
        <p:spPr>
          <a:xfrm>
            <a:off x="7489800" y="4800600"/>
            <a:ext cx="1730520" cy="12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30800\Local Settings\Temporary Internet Files\Content.IE5\D89UTEWN\MM900178308[1].gif"/>
          <p:cNvPicPr/>
          <p:nvPr/>
        </p:nvPicPr>
        <p:blipFill>
          <a:blip r:embed="rId2"/>
          <a:stretch/>
        </p:blipFill>
        <p:spPr>
          <a:xfrm>
            <a:off x="0" y="2971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3"/>
          <a:stretch/>
        </p:blipFill>
        <p:spPr>
          <a:xfrm>
            <a:off x="3048120" y="5132520"/>
            <a:ext cx="2146320" cy="101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2A0F11-EF56-4FB4-8317-2ABB44F164A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ree types of intellectu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6678BBD-0480-4C60-9010-0CD479B9B28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Regulation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and Assistan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68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by government to regulate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efforts of government to assis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ethods used by government to rais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5BFE0A-C5DE-4CC3-A2A3-BA4182077B9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E2F4D1-F2D2-421B-89E0-FB64786B592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24"/>
                </a:solidFill>
                <a:latin typeface="Arial"/>
              </a:rPr>
              <a:t>REGULATORY ACTIVITIES</a:t>
            </a:r>
            <a:br>
              <a:rPr sz="2000"/>
            </a:br>
            <a:r>
              <a:rPr b="1" lang="en-US" sz="1600" spc="-1" strike="noStrike">
                <a:solidFill>
                  <a:srgbClr val="e00024"/>
                </a:solidFill>
                <a:latin typeface="Arial"/>
              </a:rPr>
              <a:t>Business activity in the US is structured by the producers and consumers but government DOES get involved in some areas such as:</a:t>
            </a: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of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Public ut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rganization that supplies a service or product vital to all people (EX: water and elec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gulates these companies and the rates they charge have to be approved by government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oward a deregulation where competition can be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ttempts to promote fair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exists when a business has control of the market for a product or service (PRICES ---HIG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etition is present then the consumers get the best values at a fair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Antitrust law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vent unfair business practices such as false advertising, deceptive pricing, misleading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24" descr="C:\Documents and Settings\30800\Local Settings\Temporary Internet Files\Content.IE5\GP8LJUVI\MC900089816[1].wmf"/>
          <p:cNvPicPr/>
          <p:nvPr/>
        </p:nvPicPr>
        <p:blipFill>
          <a:blip r:embed="rId1"/>
          <a:stretch/>
        </p:blipFill>
        <p:spPr>
          <a:xfrm>
            <a:off x="7467480" y="-15228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25" descr="C:\Documents and Settings\30800\Local Settings\Temporary Internet Files\Content.IE5\D89UTEWN\MC900056835[1].wmf"/>
          <p:cNvPicPr/>
          <p:nvPr/>
        </p:nvPicPr>
        <p:blipFill>
          <a:blip r:embed="rId2"/>
          <a:stretch/>
        </p:blipFill>
        <p:spPr>
          <a:xfrm>
            <a:off x="7934400" y="3124080"/>
            <a:ext cx="1738080" cy="17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414414E-4803-4A47-934C-736B3439A9B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government regulate ut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D46B9A8-FE76-449F-886A-5F7238AB36C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ASSISTS BUSINESS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Data gathered by government such as census can help businesses with planning or potential customers in a certain area.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Can also help provide loans or financial aid due to flooding, hardship, droughts.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uys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evels of government make up about 20% of all the goods and services produced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usinesses depend on government contracts (EX: govt. pays businesses to construct highways and build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employs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largest employer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f every 9 workers is a public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defenders, meat inspectors, teachers are 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Documents and Settings\30800\Local Settings\Temporary Internet Files\Content.IE5\CRSJFY9F\MC900089228[1].wmf"/>
          <p:cNvPicPr/>
          <p:nvPr/>
        </p:nvPicPr>
        <p:blipFill>
          <a:blip r:embed="rId1"/>
          <a:stretch/>
        </p:blipFill>
        <p:spPr>
          <a:xfrm>
            <a:off x="7924680" y="990720"/>
            <a:ext cx="1095480" cy="977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Documents and Settings\30800\Local Settings\Temporary Internet Files\Content.IE5\GP8LJUVI\MC900060195[1].wmf"/>
          <p:cNvPicPr/>
          <p:nvPr/>
        </p:nvPicPr>
        <p:blipFill>
          <a:blip r:embed="rId2"/>
          <a:stretch/>
        </p:blipFill>
        <p:spPr>
          <a:xfrm>
            <a:off x="1905120" y="5334120"/>
            <a:ext cx="1631880" cy="167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Documents and Settings\30800\Local Settings\Temporary Internet Files\Content.IE5\CRSJFY9F\MC900056116[1].wmf"/>
          <p:cNvPicPr/>
          <p:nvPr/>
        </p:nvPicPr>
        <p:blipFill>
          <a:blip r:embed="rId3"/>
          <a:stretch/>
        </p:blipFill>
        <p:spPr>
          <a:xfrm>
            <a:off x="4191120" y="5457960"/>
            <a:ext cx="1788840" cy="142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B6AB69-F359-47E1-BF17-E1AF888A8C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ABE5E3-FEBE-41A9-9458-683635452CD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government assist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16A1778-BCA5-4E11-A56E-4D4FA605AC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RAISES MONEY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must have a way to fund  operations and pay wages to workers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Fines for traffic violations; fees and licenses provide revenue 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tax- the more you make the more they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ax- value of land and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- tax on goods and services (PA –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ing taxes is a duty of citizens an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borrows by selling bon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buy a bond, you are helping to fund services provided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s issued by the government are backed by the “full faith and credit” of the federal government and they become a debtor and must pay back bond with inter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0" descr="C:\Documents and Settings\30800\Local Settings\Temporary Internet Files\Content.IE5\GP8LJUVI\MC900287372[1].wmf"/>
          <p:cNvPicPr/>
          <p:nvPr/>
        </p:nvPicPr>
        <p:blipFill>
          <a:blip r:embed="rId1"/>
          <a:stretch/>
        </p:blipFill>
        <p:spPr>
          <a:xfrm>
            <a:off x="6858000" y="1752480"/>
            <a:ext cx="2174760" cy="175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C:\Documents and Settings\30800\Local Settings\Temporary Internet Files\Content.IE5\E0DQETNK\MM900395692[1].gif"/>
          <p:cNvPicPr/>
          <p:nvPr/>
        </p:nvPicPr>
        <p:blipFill>
          <a:blip r:embed="rId2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029DA4-C8E2-4ABA-8D3C-C483E8C48D2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ax revenue and borrowing by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064AAC5-9A47-4B5F-9C92-DF8E1A8591A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SOCIAL RESPONSIBILITY ISSUE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the duty of a business to contribute to the well being of a commun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ened social responsibility of business calls for more attention to social concerns such as:</a:t>
            </a:r>
            <a:br>
              <a:rPr sz="1800"/>
            </a:b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rvation- saving scarce natural resources (Goal for many compan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an’t be replaced which is called a non-renewable resource (IE: Gas, Oil, Cop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cially responsible business takes action to improve or change operations that cause pol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Environmental Protection Agency (EP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s and enforces water and air quality standards set forth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es are more and more sensitive to the role of women, ethnic groups, the physically challenged, and older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 involves learning how to manage a work force made up of the diverse cultures in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American with Disabilities Act (AD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caused major improvements to be made toward accommodating workers who are physically challeng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Discrimination in Employment Act bars employers from using age as a basis for employment decisiongs (hiring, promotions, or terminations).  Protects persons aged 40 and 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30800\Local Settings\Temporary Internet Files\Content.IE5\CRSJFY9F\MM900318135[1].gif"/>
          <p:cNvPicPr/>
          <p:nvPr/>
        </p:nvPicPr>
        <p:blipFill>
          <a:blip r:embed="rId3"/>
          <a:stretch/>
        </p:blipFill>
        <p:spPr>
          <a:xfrm>
            <a:off x="822312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30800\Local Settings\Temporary Internet Files\Content.IE5\D89UTEWN\MP900411830[1].jpg"/>
          <p:cNvPicPr/>
          <p:nvPr/>
        </p:nvPicPr>
        <p:blipFill>
          <a:blip r:embed="rId4"/>
          <a:stretch/>
        </p:blipFill>
        <p:spPr>
          <a:xfrm>
            <a:off x="-228600" y="3962520"/>
            <a:ext cx="13032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717E11-C905-4A5B-9BA9-2942D2D963E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24"/>
                </a:solidFill>
                <a:latin typeface="Arial"/>
              </a:rPr>
              <a:t>SOCIAL RESPONSIBILITY ISSUES cont.</a:t>
            </a: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should be able to work in an office or factory free from the risks that could cause acc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environment should provide full protection from fire and other haz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need to know how to manage the unexp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also involves employee training in how to work safely and what to do in case of an emer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mployers have put a variety of programs into practice to protec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and State governments have passed laws to make the workplace sa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Safety and Health Administration regulates and enforces safe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althy workforce is a productive workfo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es do a number of things to promote a healthy lifestyle like stop smoking seminars, weight loss programs, and counseling for employees with drug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uses that relate to employee well-being are often included in labor contracts and company policy man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clauses are conditions or work that pertain to the health and safety of employees while on the jo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ompanies sponsor sports teams and encourage employees to tak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30800\Local Settings\Temporary Internet Files\Content.IE5\XAST5BE9\MC900097825[1].wmf"/>
          <p:cNvPicPr/>
          <p:nvPr/>
        </p:nvPicPr>
        <p:blipFill>
          <a:blip r:embed="rId1"/>
          <a:stretch/>
        </p:blipFill>
        <p:spPr>
          <a:xfrm>
            <a:off x="7010280" y="-304920"/>
            <a:ext cx="1795680" cy="177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30800\Local Settings\Temporary Internet Files\Content.IE5\E0DQETNK\MP900448610[1].jpg"/>
          <p:cNvPicPr/>
          <p:nvPr/>
        </p:nvPicPr>
        <p:blipFill>
          <a:blip r:embed="rId2"/>
          <a:stretch/>
        </p:blipFill>
        <p:spPr>
          <a:xfrm>
            <a:off x="-27000" y="35053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884FAB-E122-4DEA-9DB5-9B0A59945D6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our areas of social responsibility that may require the attention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356412-E377-4518-A430-298BA55A1D0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justice for groups of a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compan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need for governmen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 of life in a community an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social issues among workers, consumers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0" descr="C:\Documents and Settings\30800\Local Settings\Temporary Internet Files\Content.IE5\XAST5BE9\MC900045079[1].wmf"/>
          <p:cNvPicPr/>
          <p:nvPr/>
        </p:nvPicPr>
        <p:blipFill>
          <a:blip r:embed="rId1"/>
          <a:stretch/>
        </p:blipFill>
        <p:spPr>
          <a:xfrm>
            <a:off x="7620120" y="822240"/>
            <a:ext cx="1784160" cy="17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A9060E-830A-41DD-AFAB-B9C19D0F3DA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onpolluting or saf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pairs to remov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ness and rehabili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jects sponsored by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4"/>
                </a:solidFill>
                <a:latin typeface="Arial"/>
              </a:rPr>
              <a:t>Spending on social programs must be at a suitable level so a business can still earn a reasonable prof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C:\Documents and Settings\30800\Local Settings\Temporary Internet Files\Content.IE5\RM2FJ5LU\MP900422746[1].jpg"/>
          <p:cNvPicPr/>
          <p:nvPr/>
        </p:nvPicPr>
        <p:blipFill>
          <a:blip r:embed="rId1"/>
          <a:stretch/>
        </p:blipFill>
        <p:spPr>
          <a:xfrm>
            <a:off x="7128000" y="1879560"/>
            <a:ext cx="2206440" cy="220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8E17D46-5674-4EFB-98EA-FEA04114991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benefits of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20Z</dcterms:created>
  <dc:creator>M. C. McLaughlin</dc:creator>
  <dc:description/>
  <dc:language>en-US</dc:language>
  <cp:lastModifiedBy>test</cp:lastModifiedBy>
  <dcterms:modified xsi:type="dcterms:W3CDTF">2013-11-22T18:14:14Z</dcterms:modified>
  <cp:revision>20</cp:revision>
  <dc:subject/>
  <dc:title>Chapter 4 Social Responsibility of Business and Government</dc:title>
</cp:coreProperties>
</file>