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2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9.jpeg" ContentType="image/jpeg"/>
  <Override PartName="/ppt/media/image2.png" ContentType="image/png"/>
  <Override PartName="/ppt/media/image22.gif" ContentType="image/gif"/>
  <Override PartName="/ppt/media/image28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5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30.gif" ContentType="image/gif"/>
  <Override PartName="/ppt/media/image23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1B49-5F84-45C1-BA03-4AC4CF0AC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CF0-C1C4-43FB-AD62-87007F410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8BEC-C351-410D-BD7C-830AF388D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23F7-6F7D-4417-AF21-371701FC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B6C0-8F73-4010-A679-BC938160C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E4B8-70E8-4FD1-8A8F-DEBE847F5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BDFA-B2C1-4F17-80D8-A67DD7CDA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CA68-2187-493C-8810-60C8DF388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8AEA7-27C8-4176-8C8A-9949FABE1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FFF96-0858-456C-B8BB-B3FDD82B8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B733D-D791-4342-92E8-65638BFCF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5AB77-A019-40CF-995E-205CABFABF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149F-983E-489A-A43C-23DF65B91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CC804-F32A-4473-A1FE-FC029A752B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9AFD8-5472-42D0-8971-EFC9EFBA5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F812-40BE-4C42-835B-22FA4663B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EF69E-87D6-4A4D-89EA-EBFAD094B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DC66D-1D3D-47AE-896E-F19049AEA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2BEB9-7CEB-4FDD-BEAE-C04A19AE5F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CE84D-DEF9-4528-B7C3-B2010C85B1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EF5CC-B204-4AD8-BC60-E224C4954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4F58-9FE9-411D-A999-DBCC8612E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2F33-F883-42E1-B652-FFE11CEB8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9FCB-77FC-48B0-86B2-BFAA83E7C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8320-9EDA-4B1A-A0D2-2348886B9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D24A-BCD7-4E55-9467-5D771A3A6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4041-2B02-45AF-8246-8C573E193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ECED-E262-4CA5-AA50-1EF35C88F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221600" cy="438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A1773E5-AD58-4A1F-B66C-83D7075C213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315200" y="0"/>
            <a:ext cx="18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f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361a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6360" y="228600"/>
            <a:ext cx="36561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6122880"/>
            <a:ext cx="9144000" cy="731880"/>
          </a:xfrm>
          <a:prstGeom prst="rect">
            <a:avLst/>
          </a:prstGeom>
          <a:solidFill>
            <a:srgbClr val="e0002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967360" y="613728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400"/>
                </a:solidFill>
                <a:latin typeface="Arial"/>
              </a:rPr>
              <a:t>Introduction to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498000" y="644436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Thomson South-We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65280" y="304920"/>
            <a:ext cx="3017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5800" indent="-39312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3211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080" indent="-313560">
              <a:spcBef>
                <a:spcPts val="7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8200" indent="-2923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8200" indent="-29232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2258326-88AA-4EDA-BF76-19CFF5CBC85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ericanexpress.com/au/content/careers/culture.html" TargetMode="External"/><Relationship Id="rId2" Type="http://schemas.openxmlformats.org/officeDocument/2006/relationships/hyperlink" Target="http://www.mcall.com/news/breaking/mc-c-salisbury-school-thefts-arrest-20121126,0,5383198.story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cur.org/post/low-water-flow-causes-freight-problems-mississippi-river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pa.gov/" TargetMode="External"/><Relationship Id="rId2" Type="http://schemas.openxmlformats.org/officeDocument/2006/relationships/hyperlink" Target="http://www.ada.gov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cial Responsibility of Business and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1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2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Protec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4-3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Government</a:t>
            </a:r>
            <a:r>
              <a:rPr b="1" lang="en-US" sz="3200" spc="-1" strike="noStrike">
                <a:solidFill>
                  <a:srgbClr val="007a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c1"/>
                </a:solidFill>
                <a:latin typeface="Arial"/>
              </a:rPr>
              <a:t>Regulation and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853000" y="304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B2697DE-DA0C-4F8A-B72A-13C87D37963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BUSINESS ETHICS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- rules about how businesses and their employees ought to behave.  </a:t>
            </a:r>
            <a:br>
              <a:rPr sz="1400"/>
            </a:b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e00024"/>
                </a:solidFill>
                <a:latin typeface="Arial"/>
              </a:rPr>
              <a:t>Ethics are rules of conduct</a:t>
            </a:r>
            <a:endParaRPr b="1" lang="en-US" sz="1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of ethics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set of rules for guiding the actions of employees or members of an organiz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must be worded in terms of acceptable behavior rather than forbidden action.  Can be trick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expand into a profitable market in another country where doing business requires giving expensive gifts to key government officials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Should a company continue to produce a popular product after it discovers a minor defect in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American Express Blue Box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cal conduct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s who show strong moral character and make ethical business decisions set the ethical standards for a busine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et up educational programs to promote honesty and integrity ranging from personal phone calls during work hours to taking supplies for personal use </a:t>
            </a:r>
            <a:r>
              <a:rPr b="0" lang="en-US" sz="14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(Stea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 to follow when considering if something is ethical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action legal?  Who is affected by the action and how?  Does the action violate professional or company standar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lict of interest is when an action by a company or person results in an unfair benef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34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:  Person serving on the board of directors required that the company buy items only from businesses that he owns or contr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BFA24F7-1B53-4835-9C89-11B67CE8B07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a code of eth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BFF1C3F-D9FE-4E25-BA90-8C6ED53B823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2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s and levels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government protection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ypes of intellectu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C44C9BE-82AA-450F-B791-98279042F7F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7D72278-CDE6-4179-9E5C-05C3A94AB04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-39240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services for member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ng citizens, consumers, businesses, an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utilities and promoting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information and support to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public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-40536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0" descr="C:\Documents and Settings\30800\Local Settings\Temporary Internet Files\Content.IE5\CRSJFY9F\MP900441058[1].jpg"/>
          <p:cNvPicPr/>
          <p:nvPr/>
        </p:nvPicPr>
        <p:blipFill>
          <a:blip r:embed="rId1"/>
          <a:stretch/>
        </p:blipFill>
        <p:spPr>
          <a:xfrm>
            <a:off x="8077320" y="186696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:\Documents and Settings\30800\Local Settings\Temporary Internet Files\Content.IE5\D89UTEWN\MC900149345[1].wmf"/>
          <p:cNvPicPr/>
          <p:nvPr/>
        </p:nvPicPr>
        <p:blipFill>
          <a:blip r:embed="rId2"/>
          <a:stretch/>
        </p:blipFill>
        <p:spPr>
          <a:xfrm>
            <a:off x="4343400" y="5105520"/>
            <a:ext cx="23972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79276E2-7C1A-4B17-AFE7-B1880580E0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IN SOCIE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0" descr="C:\Documents and Settings\30800\Local Settings\Temporary Internet Files\Content.IE5\E0DQETNK\MC900436222[1].png"/>
          <p:cNvPicPr/>
          <p:nvPr/>
        </p:nvPicPr>
        <p:blipFill>
          <a:blip r:embed="rId1"/>
          <a:stretch/>
        </p:blipFill>
        <p:spPr>
          <a:xfrm>
            <a:off x="5181480" y="2286000"/>
            <a:ext cx="280188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3B13BC-E8E0-452C-A7A3-7AFEFFE155A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FEDERAL GOVERNMEN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ees the activities that involve two or more states or other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foreign and interstate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Interstate Comme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lings involves companies in more than one state.  (I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C:\Documents and Settings\30800\Local Settings\Temporary Internet Files\Content.IE5\GP8LJUVI\MC900071454[1].wmf"/>
          <p:cNvPicPr/>
          <p:nvPr/>
        </p:nvPicPr>
        <p:blipFill>
          <a:blip r:embed="rId2"/>
          <a:stretch/>
        </p:blipFill>
        <p:spPr>
          <a:xfrm>
            <a:off x="2514600" y="4952880"/>
            <a:ext cx="3162240" cy="20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FF3377-12A5-41E6-8E62-D3C25CE9678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TATE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business actions within their own b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some of their legislative power to local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0024"/>
                </a:solidFill>
                <a:latin typeface="Arial"/>
              </a:rPr>
              <a:t>Intrastate Commer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business dealings involving companies that do business in only one state.  (PA-5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C:\Documents and Settings\30800\Local Settings\Temporary Internet Files\Content.IE5\GP8LJUVI\MP900289009[1].jpg"/>
          <p:cNvPicPr/>
          <p:nvPr/>
        </p:nvPicPr>
        <p:blipFill>
          <a:blip r:embed="rId1"/>
          <a:stretch/>
        </p:blipFill>
        <p:spPr>
          <a:xfrm>
            <a:off x="7315200" y="380880"/>
            <a:ext cx="2209680" cy="14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3DD107D-D360-4368-83C6-C518BFDE18B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LOCAL GOVERNMENT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unty boards and city or town counc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s needed for an orderly society, such as police and fir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C:\Documents and Settings\30800\Local Settings\Temporary Internet Files\Content.IE5\CRSJFY9F\MC900196420[1].wmf"/>
          <p:cNvPicPr/>
          <p:nvPr/>
        </p:nvPicPr>
        <p:blipFill>
          <a:blip r:embed="rId1"/>
          <a:stretch/>
        </p:blipFill>
        <p:spPr>
          <a:xfrm>
            <a:off x="2362320" y="4495680"/>
            <a:ext cx="1784160" cy="178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C:\Documents and Settings\30800\Local Settings\Temporary Internet Files\Content.IE5\GP8LJUVI\MP900422851[1].jpg"/>
          <p:cNvPicPr/>
          <p:nvPr/>
        </p:nvPicPr>
        <p:blipFill>
          <a:blip r:embed="rId2"/>
          <a:stretch/>
        </p:blipFill>
        <p:spPr>
          <a:xfrm>
            <a:off x="5486400" y="411480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BDABA8C-65AF-4AA3-9BBD-A101D01FFFF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hree levels of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9C98EAD-DEFB-493F-AAC6-1DA3226ED6A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1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ocial responsibility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benefits and costs of social respo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code of et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0208FD-CBC8-44AA-A6E8-02635C83414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GOVERNMENT PROTECTION ACTIVITIE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worker you have a basic right to safe work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inspections and regulations or work areas help reduce the number of job-related acc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ices and personal biases must NOT affect a hiring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is an agreement to exchange goods or services for something of value, usually mone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99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written or un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24" descr="C:\Documents and Settings\30800\Local Settings\Temporary Internet Files\Content.IE5\I4A0DTRU\MC900287443[1].wmf"/>
          <p:cNvPicPr/>
          <p:nvPr/>
        </p:nvPicPr>
        <p:blipFill>
          <a:blip r:embed="rId1"/>
          <a:stretch/>
        </p:blipFill>
        <p:spPr>
          <a:xfrm>
            <a:off x="7238880" y="-11160"/>
            <a:ext cx="2087640" cy="197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25" descr="C:\Documents and Settings\30800\Local Settings\Temporary Internet Files\Content.IE5\E0DQETNK\MC900295567[1].wmf"/>
          <p:cNvPicPr/>
          <p:nvPr/>
        </p:nvPicPr>
        <p:blipFill>
          <a:blip r:embed="rId2"/>
          <a:stretch/>
        </p:blipFill>
        <p:spPr>
          <a:xfrm>
            <a:off x="6504120" y="4321080"/>
            <a:ext cx="146988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CF0D88B-B91B-47CB-9C09-D92A1DFCCD3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Contract Basics cont.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Agre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offer must be made and an acceptance must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mpetent Partie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legal age and mentally 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Consi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mething of measurable value must be ex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0024"/>
                </a:solidFill>
                <a:latin typeface="Arial"/>
              </a:rPr>
              <a:t>Leg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duct or service legally sold. No fraud or deception exists in th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:\Documents and Settings\30800\Local Settings\Temporary Internet Files\Content.IE5\CRSJFY9F\MC900384428[1].wmf"/>
          <p:cNvPicPr/>
          <p:nvPr/>
        </p:nvPicPr>
        <p:blipFill>
          <a:blip r:embed="rId1"/>
          <a:stretch/>
        </p:blipFill>
        <p:spPr>
          <a:xfrm>
            <a:off x="-457200" y="5029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30800\Local Settings\Temporary Internet Files\Content.IE5\OLEBDURU\MP900386219[1].jpg"/>
          <p:cNvPicPr/>
          <p:nvPr/>
        </p:nvPicPr>
        <p:blipFill>
          <a:blip r:embed="rId2"/>
          <a:stretch/>
        </p:blipFill>
        <p:spPr>
          <a:xfrm>
            <a:off x="7924680" y="1557360"/>
            <a:ext cx="203220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D169C23-C59D-4C43-98F8-3F36A4FAF83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elements of a con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F9B1B74-E3D9-4ED1-84F3-D106860A499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024"/>
                </a:solidFill>
                <a:latin typeface="Arial"/>
              </a:rPr>
              <a:t>PROTECTION OF INTELLECTUAL PROPERTY-</a:t>
            </a:r>
            <a:br>
              <a:rPr sz="3600"/>
            </a:br>
            <a:r>
              <a:rPr b="1" lang="en-US" sz="2400" spc="-1" strike="noStrike">
                <a:solidFill>
                  <a:srgbClr val="e00024"/>
                </a:solidFill>
                <a:latin typeface="Arial"/>
              </a:rPr>
              <a:t>is purely intangible with no physical characteristics</a:t>
            </a:r>
            <a:endParaRPr b="1" lang="en-US" sz="2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Pat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ives the inventor sole right to make, use, or sell the item for 17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Copy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tects the creative work of authors, composers, and art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0024"/>
                </a:solidFill>
                <a:latin typeface="Arial"/>
              </a:rPr>
              <a:t>Tradema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ord letter or symbol linked with a specific company or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:\Documents and Settings\30800\Local Settings\Temporary Internet Files\Content.IE5\XAST5BE9\MC900154506[1].wmf"/>
          <p:cNvPicPr/>
          <p:nvPr/>
        </p:nvPicPr>
        <p:blipFill>
          <a:blip r:embed="rId1"/>
          <a:stretch/>
        </p:blipFill>
        <p:spPr>
          <a:xfrm>
            <a:off x="7489800" y="4800600"/>
            <a:ext cx="1730520" cy="126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30800\Local Settings\Temporary Internet Files\Content.IE5\D89UTEWN\MM900178308[1].gif"/>
          <p:cNvPicPr/>
          <p:nvPr/>
        </p:nvPicPr>
        <p:blipFill>
          <a:blip r:embed="rId2"/>
          <a:stretch/>
        </p:blipFill>
        <p:spPr>
          <a:xfrm>
            <a:off x="0" y="2971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3"/>
          <a:stretch/>
        </p:blipFill>
        <p:spPr>
          <a:xfrm>
            <a:off x="3048120" y="5132520"/>
            <a:ext cx="2146320" cy="101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2273E68-0E93-4272-9C77-3B281D2F904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ree types of intellectual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3272BC6-A1F4-4E1B-9559-C01DD1DF90C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e079"/>
                </a:solidFill>
                <a:latin typeface="Arial"/>
              </a:rPr>
              <a:t>LESSON 4-3</a:t>
            </a:r>
            <a:br>
              <a:rPr sz="2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Government Regulation </a:t>
            </a:r>
            <a:br>
              <a:rPr sz="4400"/>
            </a:b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and Assistance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682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61a2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ctions by government to regulate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efforts of government to assist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400" indent="-39240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ethods used by government to rais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3E26E3-106D-4621-98F5-BD219AEC190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rus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A7E0740-0EF7-4E19-A6D1-F75A0A6E60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024"/>
                </a:solidFill>
                <a:latin typeface="Arial"/>
              </a:rPr>
              <a:t>REGULATORY ACTIVITIES</a:t>
            </a:r>
            <a:br>
              <a:rPr sz="2000"/>
            </a:br>
            <a:r>
              <a:rPr b="1" lang="en-US" sz="1600" spc="-1" strike="noStrike">
                <a:solidFill>
                  <a:srgbClr val="e00024"/>
                </a:solidFill>
                <a:latin typeface="Arial"/>
              </a:rPr>
              <a:t>Business activity in the US is structured by the producers and consumers but government DOES get involved in some areas such as:</a:t>
            </a: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of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Public ut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organization that supplies a service or product vital to all people (EX: water and elec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regulates these companies and the rates they charge have to be approved by government agen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toward a deregulation where competition can be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unfa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ttempts to promote fair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y exists when a business has control of the market for a product or service (PRICES ---HIG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etition is present then the consumers get the best values at a fair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00024"/>
                </a:solidFill>
                <a:latin typeface="Arial"/>
              </a:rPr>
              <a:t>Antitrust law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vent unfair business practices such as false advertising, deceptive pricing, misleading lab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24" descr="C:\Documents and Settings\30800\Local Settings\Temporary Internet Files\Content.IE5\GP8LJUVI\MC900089816[1].wmf"/>
          <p:cNvPicPr/>
          <p:nvPr/>
        </p:nvPicPr>
        <p:blipFill>
          <a:blip r:embed="rId1"/>
          <a:stretch/>
        </p:blipFill>
        <p:spPr>
          <a:xfrm>
            <a:off x="7467480" y="-15228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25" descr="C:\Documents and Settings\30800\Local Settings\Temporary Internet Files\Content.IE5\D89UTEWN\MC900056835[1].wmf"/>
          <p:cNvPicPr/>
          <p:nvPr/>
        </p:nvPicPr>
        <p:blipFill>
          <a:blip r:embed="rId2"/>
          <a:stretch/>
        </p:blipFill>
        <p:spPr>
          <a:xfrm>
            <a:off x="7934400" y="3124080"/>
            <a:ext cx="1738080" cy="17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BAA060C-CD7B-42DD-B2C3-F09C9A7F399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government regulate ut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55B2B13-2FBD-4C88-8ABE-733241ED45C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ASSISTS BUSINESS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Data gathered by government such as census can help businesses with planning or potential customers in a certain area.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Can also help provide loans or financial aid due to flooding, hardship, droughts.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uys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evels of government make up about 20% of all the goods and services produced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usinesses depend on government contracts (EX: govt. pays businesses to construct highways and build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employs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largest employer in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f every 9 workers is a public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defenders, meat inspectors, teachers are 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Documents and Settings\30800\Local Settings\Temporary Internet Files\Content.IE5\CRSJFY9F\MC900089228[1].wmf"/>
          <p:cNvPicPr/>
          <p:nvPr/>
        </p:nvPicPr>
        <p:blipFill>
          <a:blip r:embed="rId1"/>
          <a:stretch/>
        </p:blipFill>
        <p:spPr>
          <a:xfrm>
            <a:off x="7924680" y="990720"/>
            <a:ext cx="1095480" cy="977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C:\Documents and Settings\30800\Local Settings\Temporary Internet Files\Content.IE5\GP8LJUVI\MC900060195[1].wmf"/>
          <p:cNvPicPr/>
          <p:nvPr/>
        </p:nvPicPr>
        <p:blipFill>
          <a:blip r:embed="rId2"/>
          <a:stretch/>
        </p:blipFill>
        <p:spPr>
          <a:xfrm>
            <a:off x="1905120" y="5334120"/>
            <a:ext cx="1631880" cy="167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Documents and Settings\30800\Local Settings\Temporary Internet Files\Content.IE5\CRSJFY9F\MC900056116[1].wmf"/>
          <p:cNvPicPr/>
          <p:nvPr/>
        </p:nvPicPr>
        <p:blipFill>
          <a:blip r:embed="rId3"/>
          <a:stretch/>
        </p:blipFill>
        <p:spPr>
          <a:xfrm>
            <a:off x="4191120" y="5457960"/>
            <a:ext cx="1788840" cy="142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9DB909E-D328-46CA-8EBD-EEF20D4F683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Key Terms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2CC19E-311A-425D-8B10-709DA6A4E46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government assist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04DC7F1-F702-4EFF-802E-B75D7E584CD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GOVERNMENT RAISES MONEY</a:t>
            </a:r>
            <a:br>
              <a:rPr sz="2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must have a way to fund  operations and pay wages to workers</a:t>
            </a:r>
            <a:br>
              <a:rPr sz="1800"/>
            </a:br>
            <a:r>
              <a:rPr b="1" lang="en-US" sz="1800" spc="-1" strike="noStrike">
                <a:solidFill>
                  <a:srgbClr val="e00024"/>
                </a:solidFill>
                <a:latin typeface="Arial"/>
              </a:rPr>
              <a:t>-Fines for traffic violations; fees and licenses provide revenue </a:t>
            </a:r>
            <a:endParaRPr b="1" lang="en-US" sz="1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tax- the more you make the more they 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ax- value of land and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- tax on goods and services (PA –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ing taxes is a duty of citizens an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 borrows by selling bon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buy a bond, you are helping to fund services provided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9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ds issued by the government are backed by the “full faith and credit” of the federal government and they become a debtor and must pay back bond with interes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0" descr="C:\Documents and Settings\30800\Local Settings\Temporary Internet Files\Content.IE5\GP8LJUVI\MC900287372[1].wmf"/>
          <p:cNvPicPr/>
          <p:nvPr/>
        </p:nvPicPr>
        <p:blipFill>
          <a:blip r:embed="rId1"/>
          <a:stretch/>
        </p:blipFill>
        <p:spPr>
          <a:xfrm>
            <a:off x="6858000" y="1752480"/>
            <a:ext cx="2174760" cy="1754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C:\Documents and Settings\30800\Local Settings\Temporary Internet Files\Content.IE5\E0DQETNK\MM900395692[1].gif"/>
          <p:cNvPicPr/>
          <p:nvPr/>
        </p:nvPicPr>
        <p:blipFill>
          <a:blip r:embed="rId2"/>
          <a:stretch/>
        </p:blipFill>
        <p:spPr>
          <a:xfrm>
            <a:off x="4724280" y="55627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E678002-C9F3-4A21-B7EF-AB974FD048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ax revenue and borrowing by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0FA52DB-9314-47A6-B3FA-C7B1513DE8E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SOCIAL RESPONSIBILITY ISSUE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the duty of a business to contribute to the well being of a commun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oadened social responsibility of business calls for more attention to social concerns such as:</a:t>
            </a:r>
            <a:br>
              <a:rPr sz="1800"/>
            </a:br>
            <a:endParaRPr b="1" lang="en-US" sz="16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rvation- saving scarce natural resources (Goal for many compan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an’t be replaced which is called a non-renewable resource (IE: Gas, Oil, Cop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cially responsible business takes action to improve or change operations that cause pol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1"/>
              </a:rPr>
              <a:t>Environmental Protection Agency (EP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s and enforces water and air quality standards set forth by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place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es are more and more sensitive to the role of women, ethnic groups, the physically challenged, and older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hallenge involves learning how to manage a work force made up of the diverse cultures in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ac1"/>
                </a:solidFill>
                <a:uFillTx/>
                <a:latin typeface="Arial"/>
                <a:hlinkClick r:id="rId2"/>
              </a:rPr>
              <a:t>American with Disabilities Act (AD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caused major improvements to be made toward accommodating workers who are physically challeng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lnSpc>
                <a:spcPct val="80000"/>
              </a:lnSpc>
              <a:spcBef>
                <a:spcPts val="4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Discrimination in Employment Act bars employers from using age as a basis for employment decisiongs (hiring, promotions, or terminations).  Protects persons aged 40 and ol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30800\Local Settings\Temporary Internet Files\Content.IE5\CRSJFY9F\MM900318135[1].gif"/>
          <p:cNvPicPr/>
          <p:nvPr/>
        </p:nvPicPr>
        <p:blipFill>
          <a:blip r:embed="rId3"/>
          <a:stretch/>
        </p:blipFill>
        <p:spPr>
          <a:xfrm>
            <a:off x="822312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30800\Local Settings\Temporary Internet Files\Content.IE5\D89UTEWN\MP900411830[1].jpg"/>
          <p:cNvPicPr/>
          <p:nvPr/>
        </p:nvPicPr>
        <p:blipFill>
          <a:blip r:embed="rId4"/>
          <a:stretch/>
        </p:blipFill>
        <p:spPr>
          <a:xfrm>
            <a:off x="-228600" y="3962520"/>
            <a:ext cx="13032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FEED21-4B31-4C43-9626-A347B7D7143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0024"/>
                </a:solidFill>
                <a:latin typeface="Arial"/>
              </a:rPr>
              <a:t>SOCIAL RESPONSIBILITY ISSUES cont.</a:t>
            </a:r>
            <a:r>
              <a:rPr b="1" lang="en-US" sz="2800" spc="-1" strike="noStrike">
                <a:solidFill>
                  <a:srgbClr val="e00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451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should be able to work in an office or factory free from the risks that could cause acc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environment should provide full protection from fire and other haz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need to know how to manage the unexp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also involves employee training in how to work safely and what to do in case of an emer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mployers have put a variety of programs into practice to protec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and State governments have passed laws to make the workplace sa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3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Safety and Health Administration regulates and enforces safety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45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ealthy workforce is a productive workfo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es do a number of things to promote a healthy lifestyle like stop smoking seminars, weight loss programs, and counseling for employees with drug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uses that relate to employee well-being are often included in labor contracts and company policy manu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clauses are conditions or work that pertain to the health and safety of employees while on the jo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334800">
              <a:spcBef>
                <a:spcPts val="34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companies sponsor sports teams and encourage employees to take 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30800\Local Settings\Temporary Internet Files\Content.IE5\XAST5BE9\MC900097825[1].wmf"/>
          <p:cNvPicPr/>
          <p:nvPr/>
        </p:nvPicPr>
        <p:blipFill>
          <a:blip r:embed="rId1"/>
          <a:stretch/>
        </p:blipFill>
        <p:spPr>
          <a:xfrm>
            <a:off x="7010280" y="-304920"/>
            <a:ext cx="1795680" cy="177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30800\Local Settings\Temporary Internet Files\Content.IE5\E0DQETNK\MP900448610[1].jpg"/>
          <p:cNvPicPr/>
          <p:nvPr/>
        </p:nvPicPr>
        <p:blipFill>
          <a:blip r:embed="rId2"/>
          <a:stretch/>
        </p:blipFill>
        <p:spPr>
          <a:xfrm>
            <a:off x="-27000" y="35053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7812AD-F7B7-4AF6-AC1D-2DD122A1D3E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our areas of social responsibility that may require the attention of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41603E8-64FF-462E-B11D-B7170ACEB9E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88440" indent="-388440">
              <a:spcBef>
                <a:spcPts val="799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justice for groups of a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compan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need for governmen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quality of life in a community an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401400">
              <a:spcBef>
                <a:spcPts val="700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social issues among workers, consumers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0" descr="C:\Documents and Settings\30800\Local Settings\Temporary Internet Files\Content.IE5\XAST5BE9\MC900045079[1].wmf"/>
          <p:cNvPicPr/>
          <p:nvPr/>
        </p:nvPicPr>
        <p:blipFill>
          <a:blip r:embed="rId1"/>
          <a:stretch/>
        </p:blipFill>
        <p:spPr>
          <a:xfrm>
            <a:off x="7620120" y="822240"/>
            <a:ext cx="1784160" cy="173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D6F802D-AF60-49BC-BEC6-CD4A326A51B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SOCIAL RESPONSIBILITY EVALUATION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7a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onpolluting or saf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pairs to remov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ness and rehabilit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jects sponsored by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409680">
              <a:spcBef>
                <a:spcPts val="601"/>
              </a:spcBef>
              <a:buClr>
                <a:srgbClr val="9361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4"/>
                </a:solidFill>
                <a:latin typeface="Arial"/>
              </a:rPr>
              <a:t>Spending on social programs must be at a suitable level so a business can still earn a reasonable prof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131240" y="14097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0024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C:\Documents and Settings\30800\Local Settings\Temporary Internet Files\Content.IE5\RM2FJ5LU\MP900422746[1].jpg"/>
          <p:cNvPicPr/>
          <p:nvPr/>
        </p:nvPicPr>
        <p:blipFill>
          <a:blip r:embed="rId1"/>
          <a:stretch/>
        </p:blipFill>
        <p:spPr>
          <a:xfrm>
            <a:off x="7128000" y="1879560"/>
            <a:ext cx="2206440" cy="220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137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7449341-92C1-4621-BBD5-DD2A96DF54C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e079"/>
                </a:solidFill>
                <a:latin typeface="Arial"/>
              </a:rPr>
              <a:t>&gt;&gt;</a:t>
            </a:r>
            <a:r>
              <a:rPr b="1" lang="en-US" sz="4400" spc="-1" strike="noStrike">
                <a:solidFill>
                  <a:srgbClr val="e00024"/>
                </a:solidFill>
                <a:latin typeface="Arial"/>
              </a:rPr>
              <a:t> C H E C K P O I N T</a:t>
            </a:r>
            <a:endParaRPr b="1" lang="en-US" sz="4400" spc="-1" strike="noStrike">
              <a:solidFill>
                <a:srgbClr val="e0002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benefits of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96080" y="0"/>
            <a:ext cx="1447920" cy="152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16:20Z</dcterms:created>
  <dc:creator>M. C. McLaughlin</dc:creator>
  <dc:description/>
  <dc:language>en-US</dc:language>
  <cp:lastModifiedBy>test</cp:lastModifiedBy>
  <dcterms:modified xsi:type="dcterms:W3CDTF">2013-11-22T18:14:14Z</dcterms:modified>
  <cp:revision>20</cp:revision>
  <dc:subject/>
  <dc:title>Chapter 4 Social Responsibility of Business and Government</dc:title>
</cp:coreProperties>
</file>