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0.jpeg" ContentType="image/jpeg"/>
  <Override PartName="/ppt/media/image12.png" ContentType="image/png"/>
  <Override PartName="/ppt/media/image3.gif" ContentType="image/gif"/>
  <Override PartName="/ppt/media/image7.png" ContentType="image/png"/>
  <Override PartName="/ppt/media/image11.wmf" ContentType="image/x-wmf"/>
  <Override PartName="/ppt/media/image9.jpeg" ContentType="image/jpeg"/>
  <Override PartName="/ppt/media/image2.png" ContentType="image/png"/>
  <Override PartName="/ppt/media/image22.gif" ContentType="image/gif"/>
  <Override PartName="/ppt/media/image28.wmf" ContentType="image/x-wmf"/>
  <Override PartName="/ppt/media/image4.jpeg" ContentType="image/jpeg"/>
  <Override PartName="/ppt/media/image8.wmf" ContentType="image/x-wmf"/>
  <Override PartName="/ppt/media/image13.wmf" ContentType="image/x-wmf"/>
  <Override PartName="/ppt/media/image10.jpeg" ContentType="image/jpeg"/>
  <Override PartName="/ppt/media/image15.wmf" ContentType="image/x-wmf"/>
  <Override PartName="/ppt/media/image14.jpeg" ContentType="image/jpeg"/>
  <Override PartName="/ppt/media/image5.wmf" ContentType="image/x-wmf"/>
  <Override PartName="/ppt/media/image16.jpeg" ContentType="image/jpeg"/>
  <Override PartName="/ppt/media/image17.wmf" ContentType="image/x-wmf"/>
  <Override PartName="/ppt/media/image18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30.gif" ContentType="image/gif"/>
  <Override PartName="/ppt/media/image23.png" ContentType="image/png"/>
  <Override PartName="/ppt/media/image24.wmf" ContentType="image/x-wmf"/>
  <Override PartName="/ppt/media/image25.wmf" ContentType="image/x-wmf"/>
  <Override PartName="/ppt/media/image26.wmf" ContentType="image/x-wmf"/>
  <Override PartName="/ppt/media/image27.wmf" ContentType="image/x-wmf"/>
  <Override PartName="/ppt/media/image29.wmf" ContentType="image/x-wmf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5DC7-745C-4825-B3DF-F6FACF0A3C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C23B-61AC-4FCD-A64F-24FCD00C0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9C1A-5C7F-430A-A397-6F25C8A129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0E6A-ADC3-4552-AABA-58DC2A3C9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30E15-09F2-40E9-8882-5942FAC13F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01877-3ED8-43B0-BE13-DA96BBD7C8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F40AC-890D-45C7-84EA-B3FC225345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EDD56-31AA-4989-850B-D3A58EB7C3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F6137-530D-48C1-AAFF-6FCBAB905D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6B862-0365-4CC4-8BB0-B00DB0BE3F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A1FCFC-F1DF-4323-85BF-C931CC4034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38F6D-5F63-459E-BAED-D061562C1C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B6065B-4993-44B1-9D85-9629564402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1B53EA-DFBA-4674-BD6A-2107AA19EE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9B90C7-7157-4E28-A498-FE7AA63B03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5E276-9A06-410C-A1C4-64AB8D9284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79EB69-65A1-439B-9554-584E54990A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E64F4F-B766-474E-B2D6-D41D6F17AA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CFE7FF-9069-4980-80A0-678DE97DFE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D38339-EA83-4DAF-A3EE-0DBEEBB364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20C08F-BEBA-4651-BE9C-26CAE805FC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4F085-DF02-44A1-8B6C-8093EBDCE9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3BA57-CC93-47EB-B33F-235EC4A574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C058E-585C-4859-AFCE-D87439F54F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90B59-F675-4CAE-AC3D-8982015CF9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6F7F2-F00F-4FE9-9975-A569013B1E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1F0D0-EFEB-4E73-AA90-625A07BAF7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6ECC8-2886-4963-9329-301C8F3692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7221600" cy="4387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80520" indent="-3805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5800" indent="-393120">
              <a:spcBef>
                <a:spcPts val="7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8360" indent="-3211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080" indent="-313560">
              <a:spcBef>
                <a:spcPts val="7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8200" indent="-2923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8200" indent="-29232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8200" indent="-29232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612288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B90A6C07-C6F5-4384-ACED-D31FA86D48CB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5967360" y="6137280"/>
            <a:ext cx="31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c400"/>
                </a:solidFill>
                <a:latin typeface="Arial"/>
              </a:rPr>
              <a:t>Introduction to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 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7315200" y="0"/>
            <a:ext cx="18288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4ff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361a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306360" y="228600"/>
            <a:ext cx="365616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0" y="612288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5967360" y="6137280"/>
            <a:ext cx="31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c400"/>
                </a:solidFill>
                <a:latin typeface="Arial"/>
              </a:rPr>
              <a:t>Introduction to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 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665280" y="304920"/>
            <a:ext cx="30178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80520" indent="-3805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5800" indent="-393120">
              <a:spcBef>
                <a:spcPts val="7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8360" indent="-3211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080" indent="-313560">
              <a:spcBef>
                <a:spcPts val="7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8200" indent="-2923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8200" indent="-29232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8200" indent="-29232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3"/>
          </p:nvPr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EEC75A5D-05B9-4B83-81AB-8AB031138906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americanexpress.com/au/content/careers/culture.html" TargetMode="External"/><Relationship Id="rId2" Type="http://schemas.openxmlformats.org/officeDocument/2006/relationships/hyperlink" Target="http://www.mcall.com/news/breaking/mc-c-salisbury-school-thefts-arrest-20121126,0,5383198.story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kcur.org/post/low-water-flow-causes-freight-problems-mississippi-river" TargetMode="External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gi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pa.gov/" TargetMode="External"/><Relationship Id="rId2" Type="http://schemas.openxmlformats.org/officeDocument/2006/relationships/hyperlink" Target="http://www.ada.gov/" TargetMode="External"/><Relationship Id="rId3" Type="http://schemas.openxmlformats.org/officeDocument/2006/relationships/image" Target="../media/image3.gi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37124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cial Responsibility of Business and Governmen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43000" y="3428640"/>
            <a:ext cx="73152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1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4-1</a:t>
            </a: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7ac1"/>
                </a:solidFill>
                <a:latin typeface="Arial"/>
              </a:rPr>
              <a:t>Social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4-2</a:t>
            </a: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7ac1"/>
                </a:solidFill>
                <a:latin typeface="Arial"/>
              </a:rPr>
              <a:t>Government</a:t>
            </a: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7ac1"/>
                </a:solidFill>
                <a:latin typeface="Arial"/>
              </a:rPr>
              <a:t>Protection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4-3</a:t>
            </a: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7ac1"/>
                </a:solidFill>
                <a:latin typeface="Arial"/>
              </a:rPr>
              <a:t>Government</a:t>
            </a: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7ac1"/>
                </a:solidFill>
                <a:latin typeface="Arial"/>
              </a:rPr>
              <a:t>Regulation and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2853000" y="30492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2565E639-8DCA-42EB-9AA6-565BADC09D83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0024"/>
                </a:solidFill>
                <a:latin typeface="Arial"/>
              </a:rPr>
              <a:t>BUSINESS ETHICS</a:t>
            </a:r>
            <a:r>
              <a:rPr b="1" lang="en-US" sz="1400" spc="-1" strike="noStrike">
                <a:solidFill>
                  <a:srgbClr val="e00024"/>
                </a:solidFill>
                <a:latin typeface="Arial"/>
              </a:rPr>
              <a:t>- rules about how businesses and their employees ought to behave.  </a:t>
            </a:r>
            <a:br>
              <a:rPr sz="1400"/>
            </a:br>
            <a:r>
              <a:rPr b="1" lang="en-US" sz="1400" spc="-1" strike="noStrike">
                <a:solidFill>
                  <a:srgbClr val="e00024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e00024"/>
                </a:solidFill>
                <a:latin typeface="Arial"/>
              </a:rPr>
              <a:t>Ethics are rules of conduct</a:t>
            </a:r>
            <a:endParaRPr b="1" lang="en-US" sz="1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34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 of ethics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 set of rules for guiding the actions of employees or members of an organization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34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must be worded in terms of acceptable behavior rather than forbidden action.  Can be tricky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34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: Should a company expand into a profitable market in another country where doing business requires giving expensive gifts to key government officials?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: Should a company continue to produce a popular product after it discovers a minor defect in i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34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7ac1"/>
                </a:solidFill>
                <a:uFillTx/>
                <a:latin typeface="Arial"/>
                <a:hlinkClick r:id="rId1"/>
              </a:rPr>
              <a:t>American Express Blue Box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45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ical conduct guide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34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utives who show strong moral character and make ethical business decisions set the ethical standards for a business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34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nies set up educational programs to promote honesty and integrity ranging from personal phone calls during work hours to taking supplies for personal use </a:t>
            </a:r>
            <a:r>
              <a:rPr b="0" lang="en-US" sz="1400" spc="-1" strike="noStrike" u="sng">
                <a:solidFill>
                  <a:srgbClr val="007ac1"/>
                </a:solidFill>
                <a:uFillTx/>
                <a:latin typeface="Arial"/>
                <a:hlinkClick r:id="rId2"/>
              </a:rPr>
              <a:t>(Steal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34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uidelines to follow when considering if something is ethical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the action legal?  Who is affected by the action and how?  Does the action violate professional or company standard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34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lict of interest is when an action by a company or person results in an unfair benef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34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:  Person serving on the board of directors required that the company buy items only from businesses that he owns or contro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BE06165D-BBC8-4B9F-A6AB-96FB842D7634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 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purpose of a code of eth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AA13BCD4-DD60-466F-A9D9-5405C3F57F87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e079"/>
                </a:solidFill>
                <a:latin typeface="Arial"/>
              </a:rPr>
              <a:t>LESSON 4-2</a:t>
            </a:r>
            <a:br>
              <a:rPr sz="2400"/>
            </a:b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Government Protection Activitie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361a2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roles and levels of gover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government protection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ypes of intellectual prope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ADE56C1-16FA-491D-BEDE-CCEE1D8C202A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Key Term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m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E1A4C1DC-28A9-4FBC-ACD4-A5B051BBF1DB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GOVERNMENT IN SOCIETY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92400" indent="-39240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s of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-40536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ing services for members of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-40536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ing citizens, consumers, businesses, and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-40536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ing utilities and promoting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-40536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ing information and support to busin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-40536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ing goods an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-40536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ring public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-40536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sing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7131240" y="140976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00024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0" descr="C:\Documents and Settings\30800\Local Settings\Temporary Internet Files\Content.IE5\CRSJFY9F\MP900441058[1].jpg"/>
          <p:cNvPicPr/>
          <p:nvPr/>
        </p:nvPicPr>
        <p:blipFill>
          <a:blip r:embed="rId1"/>
          <a:stretch/>
        </p:blipFill>
        <p:spPr>
          <a:xfrm>
            <a:off x="8077320" y="1866960"/>
            <a:ext cx="1673280" cy="1673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" descr="C:\Documents and Settings\30800\Local Settings\Temporary Internet Files\Content.IE5\D89UTEWN\MC900149345[1].wmf"/>
          <p:cNvPicPr/>
          <p:nvPr/>
        </p:nvPicPr>
        <p:blipFill>
          <a:blip r:embed="rId2"/>
          <a:stretch/>
        </p:blipFill>
        <p:spPr>
          <a:xfrm>
            <a:off x="4343400" y="5105520"/>
            <a:ext cx="2397240" cy="1752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F1ED9188-FF27-407A-8B8F-9140033F4A68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GOVERNMENT IN SOCIETY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s of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deral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7131240" y="140976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00024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0" descr="C:\Documents and Settings\30800\Local Settings\Temporary Internet Files\Content.IE5\E0DQETNK\MC900436222[1].png"/>
          <p:cNvPicPr/>
          <p:nvPr/>
        </p:nvPicPr>
        <p:blipFill>
          <a:blip r:embed="rId1"/>
          <a:stretch/>
        </p:blipFill>
        <p:spPr>
          <a:xfrm>
            <a:off x="5181480" y="2286000"/>
            <a:ext cx="2801880" cy="2819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416BEE48-458B-42B3-A300-D996BEBBD50A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FEDERAL GOVERNMEN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sees the activities that involve two or more states or other count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tes foreign and interstate comme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ac1"/>
                </a:solidFill>
                <a:uFillTx/>
                <a:latin typeface="Arial"/>
                <a:hlinkClick r:id="rId1"/>
              </a:rPr>
              <a:t>Interstate Comme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alings involves companies in more than one state.  (I 9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3" descr="C:\Documents and Settings\30800\Local Settings\Temporary Internet Files\Content.IE5\GP8LJUVI\MC900071454[1].wmf"/>
          <p:cNvPicPr/>
          <p:nvPr/>
        </p:nvPicPr>
        <p:blipFill>
          <a:blip r:embed="rId2"/>
          <a:stretch/>
        </p:blipFill>
        <p:spPr>
          <a:xfrm>
            <a:off x="2514600" y="4952880"/>
            <a:ext cx="3162240" cy="2019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027F9E1-D5B7-4885-B37D-B5BC66E4DF49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STATE GOVERNMENT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te business actions within their own b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some of their legislative power to local gover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00024"/>
                </a:solidFill>
                <a:latin typeface="Arial"/>
              </a:rPr>
              <a:t>Intrastate Commerce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fers to business dealings involving companies that do business in only one state.  (PA-5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1" descr="C:\Documents and Settings\30800\Local Settings\Temporary Internet Files\Content.IE5\GP8LJUVI\MP900289009[1].jpg"/>
          <p:cNvPicPr/>
          <p:nvPr/>
        </p:nvPicPr>
        <p:blipFill>
          <a:blip r:embed="rId1"/>
          <a:stretch/>
        </p:blipFill>
        <p:spPr>
          <a:xfrm>
            <a:off x="7315200" y="380880"/>
            <a:ext cx="2209680" cy="1462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A1EA6ED-4F97-460F-B331-2D20CC3F342F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LOCAL GOVERNMENT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county boards and city or town counci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services needed for an orderly society, such as police and fire pro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1" descr="C:\Documents and Settings\30800\Local Settings\Temporary Internet Files\Content.IE5\CRSJFY9F\MC900196420[1].wmf"/>
          <p:cNvPicPr/>
          <p:nvPr/>
        </p:nvPicPr>
        <p:blipFill>
          <a:blip r:embed="rId1"/>
          <a:stretch/>
        </p:blipFill>
        <p:spPr>
          <a:xfrm>
            <a:off x="2362320" y="4495680"/>
            <a:ext cx="1784160" cy="17845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C:\Documents and Settings\30800\Local Settings\Temporary Internet Files\Content.IE5\GP8LJUVI\MP900422851[1].jpg"/>
          <p:cNvPicPr/>
          <p:nvPr/>
        </p:nvPicPr>
        <p:blipFill>
          <a:blip r:embed="rId2"/>
          <a:stretch/>
        </p:blipFill>
        <p:spPr>
          <a:xfrm>
            <a:off x="5486400" y="4114800"/>
            <a:ext cx="2895480" cy="1930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31883958-E6F2-4F07-95DB-79402CA6377C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 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three levels of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D06AFDA2-7F93-4088-A241-983C0F35510F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e079"/>
                </a:solidFill>
                <a:latin typeface="Arial"/>
              </a:rPr>
              <a:t>LESSON 4-1</a:t>
            </a:r>
            <a:br>
              <a:rPr sz="2400"/>
            </a:b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Social Responsibility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361a2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social responsibility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benefits and costs of social respons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the purpose of a code of eth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E444733E-A713-4F8A-BE54-BE4843D7F43F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0024"/>
                </a:solidFill>
                <a:latin typeface="Arial"/>
              </a:rPr>
              <a:t>GOVERNMENT PROTECTION ACTIVITIES</a:t>
            </a:r>
            <a:endParaRPr b="1" lang="en-US" sz="2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er 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4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 worker you have a basic right to safe working condi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4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vernment inspections and regulations or work areas help reduce the number of job-related accid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4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judices and personal biases must NOT affect a hiring deci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 enfor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4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act is an agreement to exchange goods or services for something of value, usually mone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4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written or unwrit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 Ba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 on next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024" descr="C:\Documents and Settings\30800\Local Settings\Temporary Internet Files\Content.IE5\I4A0DTRU\MC900287443[1].wmf"/>
          <p:cNvPicPr/>
          <p:nvPr/>
        </p:nvPicPr>
        <p:blipFill>
          <a:blip r:embed="rId1"/>
          <a:stretch/>
        </p:blipFill>
        <p:spPr>
          <a:xfrm>
            <a:off x="7238880" y="-11160"/>
            <a:ext cx="2087640" cy="19796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25" descr="C:\Documents and Settings\30800\Local Settings\Temporary Internet Files\Content.IE5\E0DQETNK\MC900295567[1].wmf"/>
          <p:cNvPicPr/>
          <p:nvPr/>
        </p:nvPicPr>
        <p:blipFill>
          <a:blip r:embed="rId2"/>
          <a:stretch/>
        </p:blipFill>
        <p:spPr>
          <a:xfrm>
            <a:off x="6504120" y="4321080"/>
            <a:ext cx="1469880" cy="1860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DF5076D4-B2EB-45FB-92BF-2AEDDDED1A29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Contract Basics cont.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0024"/>
                </a:solidFill>
                <a:latin typeface="Arial"/>
              </a:rPr>
              <a:t>Agre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n offer must be made and an acceptance must occ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0024"/>
                </a:solidFill>
                <a:latin typeface="Arial"/>
              </a:rPr>
              <a:t>Competent Parties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st be legal age and mentally compe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0024"/>
                </a:solidFill>
                <a:latin typeface="Arial"/>
              </a:rPr>
              <a:t>Conside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omething of measurable value must be exchang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0024"/>
                </a:solidFill>
                <a:latin typeface="Arial"/>
              </a:rPr>
              <a:t>Lega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roduct or service legally sold. No fraud or deception exists in the agre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C:\Documents and Settings\30800\Local Settings\Temporary Internet Files\Content.IE5\CRSJFY9F\MC900384428[1].wmf"/>
          <p:cNvPicPr/>
          <p:nvPr/>
        </p:nvPicPr>
        <p:blipFill>
          <a:blip r:embed="rId1"/>
          <a:stretch/>
        </p:blipFill>
        <p:spPr>
          <a:xfrm>
            <a:off x="-457200" y="5029200"/>
            <a:ext cx="1311120" cy="1828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C:\Documents and Settings\30800\Local Settings\Temporary Internet Files\Content.IE5\OLEBDURU\MP900386219[1].jpg"/>
          <p:cNvPicPr/>
          <p:nvPr/>
        </p:nvPicPr>
        <p:blipFill>
          <a:blip r:embed="rId2"/>
          <a:stretch/>
        </p:blipFill>
        <p:spPr>
          <a:xfrm>
            <a:off x="7924680" y="1557360"/>
            <a:ext cx="2032200" cy="3048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F1E40467-EB7B-49A0-9C58-32FFECA87A07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 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main elements of a contra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1E9E4F4B-DC74-40B7-8AFF-1C71FB18654C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00024"/>
                </a:solidFill>
                <a:latin typeface="Arial"/>
              </a:rPr>
              <a:t>PROTECTION OF INTELLECTUAL PROPERTY-</a:t>
            </a:r>
            <a:br>
              <a:rPr sz="3600"/>
            </a:br>
            <a:r>
              <a:rPr b="1" lang="en-US" sz="2400" spc="-1" strike="noStrike">
                <a:solidFill>
                  <a:srgbClr val="e00024"/>
                </a:solidFill>
                <a:latin typeface="Arial"/>
              </a:rPr>
              <a:t>is purely intangible with no physical characteristics</a:t>
            </a:r>
            <a:endParaRPr b="1" lang="en-US" sz="2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00024"/>
                </a:solidFill>
                <a:latin typeface="Arial"/>
              </a:rPr>
              <a:t>Pat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gives the inventor sole right to make, use, or sell the item for 17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00024"/>
                </a:solidFill>
                <a:latin typeface="Arial"/>
              </a:rPr>
              <a:t>Copyrigh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protects the creative work of authors, composers, and arti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00024"/>
                </a:solidFill>
                <a:latin typeface="Arial"/>
              </a:rPr>
              <a:t>Trademar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word letter or symbol linked with a specific company or produ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C:\Documents and Settings\30800\Local Settings\Temporary Internet Files\Content.IE5\XAST5BE9\MC900154506[1].wmf"/>
          <p:cNvPicPr/>
          <p:nvPr/>
        </p:nvPicPr>
        <p:blipFill>
          <a:blip r:embed="rId1"/>
          <a:stretch/>
        </p:blipFill>
        <p:spPr>
          <a:xfrm>
            <a:off x="7489800" y="4800600"/>
            <a:ext cx="1730520" cy="12621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C:\Documents and Settings\30800\Local Settings\Temporary Internet Files\Content.IE5\D89UTEWN\MM900178308[1].gif"/>
          <p:cNvPicPr/>
          <p:nvPr/>
        </p:nvPicPr>
        <p:blipFill>
          <a:blip r:embed="rId2"/>
          <a:stretch/>
        </p:blipFill>
        <p:spPr>
          <a:xfrm>
            <a:off x="0" y="297180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" descr=""/>
          <p:cNvPicPr/>
          <p:nvPr/>
        </p:nvPicPr>
        <p:blipFill>
          <a:blip r:embed="rId3"/>
          <a:stretch/>
        </p:blipFill>
        <p:spPr>
          <a:xfrm>
            <a:off x="3048120" y="5132520"/>
            <a:ext cx="2146320" cy="1011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299B941F-BB8A-4947-BC58-7B0BE73BBC91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 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ree types of intellectual proper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C0C7FA4F-EF51-48B9-A270-38C358CAF5E8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e079"/>
                </a:solidFill>
                <a:latin typeface="Arial"/>
              </a:rPr>
              <a:t>LESSON 4-3</a:t>
            </a:r>
            <a:br>
              <a:rPr sz="2400"/>
            </a:b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Government Regulation </a:t>
            </a:r>
            <a:br>
              <a:rPr sz="4400"/>
            </a:b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and Assistance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216828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92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361a2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2400" indent="-39240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actions by government to regulate busi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2400" indent="-39240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efforts of government to assist busines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2400" indent="-39240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methods used by government to raise mon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713E0ECA-7F84-4C85-855A-2247364BF057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Key Term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o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trust la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6DD33A35-30AF-4018-9B10-9E2FB0034BC5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0024"/>
                </a:solidFill>
                <a:latin typeface="Arial"/>
              </a:rPr>
              <a:t>REGULATORY ACTIVITIES</a:t>
            </a:r>
            <a:br>
              <a:rPr sz="2000"/>
            </a:br>
            <a:r>
              <a:rPr b="1" lang="en-US" sz="1600" spc="-1" strike="noStrike">
                <a:solidFill>
                  <a:srgbClr val="e00024"/>
                </a:solidFill>
                <a:latin typeface="Arial"/>
              </a:rPr>
              <a:t>Business activity in the US is structured by the producers and consumers but government DOES get involved in some areas such as:</a:t>
            </a:r>
            <a:endParaRPr b="1" lang="en-US" sz="16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80000"/>
              </a:lnSpc>
              <a:spcBef>
                <a:spcPts val="4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tion of 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00024"/>
                </a:solidFill>
                <a:latin typeface="Arial"/>
              </a:rPr>
              <a:t>Public uti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n organization that supplies a service or product vital to all people (EX: water and electr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ernment regulates these companies and the rates they charge have to be approved by government agenci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ing toward a deregulation where competition can be introduc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80000"/>
              </a:lnSpc>
              <a:spcBef>
                <a:spcPts val="4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 unfair business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ernment attempts to promote fair compet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opoly exists when a business has control of the market for a product or service (PRICES ---HIGH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competition is present then the consumers get the best values at a fair pr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00024"/>
                </a:solidFill>
                <a:latin typeface="Arial"/>
              </a:rPr>
              <a:t>Antitrust laws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event unfair business practices such as false advertising, deceptive pricing, misleading lab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024" descr="C:\Documents and Settings\30800\Local Settings\Temporary Internet Files\Content.IE5\GP8LJUVI\MC900089816[1].wmf"/>
          <p:cNvPicPr/>
          <p:nvPr/>
        </p:nvPicPr>
        <p:blipFill>
          <a:blip r:embed="rId1"/>
          <a:stretch/>
        </p:blipFill>
        <p:spPr>
          <a:xfrm>
            <a:off x="7467480" y="-152280"/>
            <a:ext cx="1812960" cy="1338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25" descr="C:\Documents and Settings\30800\Local Settings\Temporary Internet Files\Content.IE5\D89UTEWN\MC900056835[1].wmf"/>
          <p:cNvPicPr/>
          <p:nvPr/>
        </p:nvPicPr>
        <p:blipFill>
          <a:blip r:embed="rId2"/>
          <a:stretch/>
        </p:blipFill>
        <p:spPr>
          <a:xfrm>
            <a:off x="7934400" y="3124080"/>
            <a:ext cx="1738080" cy="1773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F31BC227-5FA0-4C4F-93FB-CE94BA0CECD5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 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es government regulate ut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8A2D24C2-DF09-4BDA-AB1E-9086E742C62A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0024"/>
                </a:solidFill>
                <a:latin typeface="Arial"/>
              </a:rPr>
              <a:t>GOVERNMENT ASSISTS BUSINESS</a:t>
            </a:r>
            <a:br>
              <a:rPr sz="2800"/>
            </a:br>
            <a:r>
              <a:rPr b="1" lang="en-US" sz="1800" spc="-1" strike="noStrike">
                <a:solidFill>
                  <a:srgbClr val="e00024"/>
                </a:solidFill>
                <a:latin typeface="Arial"/>
              </a:rPr>
              <a:t>-Data gathered by government such as census can help businesses with planning or potential customers in a certain area.</a:t>
            </a:r>
            <a:br>
              <a:rPr sz="1800"/>
            </a:br>
            <a:r>
              <a:rPr b="1" lang="en-US" sz="1800" spc="-1" strike="noStrike">
                <a:solidFill>
                  <a:srgbClr val="e00024"/>
                </a:solidFill>
                <a:latin typeface="Arial"/>
              </a:rPr>
              <a:t>-Can also help provide loans or financial aid due to flooding, hardship, droughts.</a:t>
            </a:r>
            <a:endParaRPr b="1" lang="en-US" sz="18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 buys goods an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levels of government make up about 20% of all the goods and services produced in the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businesses depend on government contracts (EX: govt. pays businesses to construct highways and build schoo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 employs wo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largest employer in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of every 9 workers is a public employ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defenders, meat inspectors, teachers are all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6" descr="C:\Documents and Settings\30800\Local Settings\Temporary Internet Files\Content.IE5\CRSJFY9F\MC900089228[1].wmf"/>
          <p:cNvPicPr/>
          <p:nvPr/>
        </p:nvPicPr>
        <p:blipFill>
          <a:blip r:embed="rId1"/>
          <a:stretch/>
        </p:blipFill>
        <p:spPr>
          <a:xfrm>
            <a:off x="7924680" y="990720"/>
            <a:ext cx="1095480" cy="9777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C:\Documents and Settings\30800\Local Settings\Temporary Internet Files\Content.IE5\GP8LJUVI\MC900060195[1].wmf"/>
          <p:cNvPicPr/>
          <p:nvPr/>
        </p:nvPicPr>
        <p:blipFill>
          <a:blip r:embed="rId2"/>
          <a:stretch/>
        </p:blipFill>
        <p:spPr>
          <a:xfrm>
            <a:off x="1905120" y="5334120"/>
            <a:ext cx="1631880" cy="1674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C:\Documents and Settings\30800\Local Settings\Temporary Internet Files\Content.IE5\CRSJFY9F\MC900056116[1].wmf"/>
          <p:cNvPicPr/>
          <p:nvPr/>
        </p:nvPicPr>
        <p:blipFill>
          <a:blip r:embed="rId3"/>
          <a:stretch/>
        </p:blipFill>
        <p:spPr>
          <a:xfrm>
            <a:off x="4191120" y="5457960"/>
            <a:ext cx="1788840" cy="1427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241074A3-3883-44A9-8445-7435848A4681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Key Term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renewable re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of 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63549B4-ACDE-4D80-A82E-16BE5C2EA3AD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 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government assist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17944F53-9ADE-4509-8E1B-2F643D2DFDE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0024"/>
                </a:solidFill>
                <a:latin typeface="Arial"/>
              </a:rPr>
              <a:t>GOVERNMENT RAISES MONEY</a:t>
            </a:r>
            <a:br>
              <a:rPr sz="2800"/>
            </a:br>
            <a:r>
              <a:rPr b="1" lang="en-US" sz="1800" spc="-1" strike="noStrike">
                <a:solidFill>
                  <a:srgbClr val="e00024"/>
                </a:solidFill>
                <a:latin typeface="Arial"/>
              </a:rPr>
              <a:t>-must have a way to fund  operations and pay wages to workers</a:t>
            </a:r>
            <a:br>
              <a:rPr sz="1800"/>
            </a:br>
            <a:r>
              <a:rPr b="1" lang="en-US" sz="1800" spc="-1" strike="noStrike">
                <a:solidFill>
                  <a:srgbClr val="e00024"/>
                </a:solidFill>
                <a:latin typeface="Arial"/>
              </a:rPr>
              <a:t>-Fines for traffic violations; fees and licenses provide revenue </a:t>
            </a:r>
            <a:endParaRPr b="1" lang="en-US" sz="18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e tax- the more you make the more they t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rty tax- value of land and buil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s tax- tax on goods and services (PA –6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ing taxes is a duty of citizens and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rr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4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vernment borrows by selling bond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4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n you buy a bond, you are helping to fund services provided by the govern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4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nds issued by the government are backed by the “full faith and credit” of the federal government and they become a debtor and must pay back bond with interest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0" descr="C:\Documents and Settings\30800\Local Settings\Temporary Internet Files\Content.IE5\GP8LJUVI\MC900287372[1].wmf"/>
          <p:cNvPicPr/>
          <p:nvPr/>
        </p:nvPicPr>
        <p:blipFill>
          <a:blip r:embed="rId1"/>
          <a:stretch/>
        </p:blipFill>
        <p:spPr>
          <a:xfrm>
            <a:off x="6858000" y="1752480"/>
            <a:ext cx="2174760" cy="17542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" descr="C:\Documents and Settings\30800\Local Settings\Temporary Internet Files\Content.IE5\E0DQETNK\MM900395692[1].gif"/>
          <p:cNvPicPr/>
          <p:nvPr/>
        </p:nvPicPr>
        <p:blipFill>
          <a:blip r:embed="rId2"/>
          <a:stretch/>
        </p:blipFill>
        <p:spPr>
          <a:xfrm>
            <a:off x="4724280" y="5562720"/>
            <a:ext cx="1524240" cy="1143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6B5304C2-D900-4DA6-9B2B-D772679E94B9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 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ifference between tax revenue and borrowing by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793033C9-39E9-44EC-8BDE-8DEE3B2C68C5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0024"/>
                </a:solidFill>
                <a:latin typeface="Arial"/>
              </a:rPr>
              <a:t>SOCIAL RESPONSIBILITY ISSUES</a:t>
            </a:r>
            <a:br>
              <a:rPr sz="28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ers to the duty of a business to contribute to the well being of a community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roadened social responsibility of business calls for more attention to social concerns such as:</a:t>
            </a:r>
            <a:br>
              <a:rPr sz="1800"/>
            </a:br>
            <a:endParaRPr b="1" lang="en-US" sz="16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80000"/>
              </a:lnSpc>
              <a:spcBef>
                <a:spcPts val="45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ironmental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4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ervation- saving scarce natural resources (Goal for many compan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4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can’t be replaced which is called a non-renewable resource (IE: Gas, Oil, Copp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4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ocially responsible business takes action to improve or change operations that cause poll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4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600" spc="-1" strike="noStrike" u="sng">
                <a:solidFill>
                  <a:srgbClr val="007ac1"/>
                </a:solidFill>
                <a:uFillTx/>
                <a:latin typeface="Arial"/>
                <a:hlinkClick r:id="rId1"/>
              </a:rPr>
              <a:t>Environmental Protection Agency (EPA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itors and enforces water and air quality standards set forth by the govern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80000"/>
              </a:lnSpc>
              <a:spcBef>
                <a:spcPts val="45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place d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4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es are more and more sensitive to the role of women, ethnic groups, the physically challenged, and older work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4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jor challenge involves learning how to manage a work force made up of the diverse cultures in socie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4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7ac1"/>
                </a:solidFill>
                <a:uFillTx/>
                <a:latin typeface="Arial"/>
                <a:hlinkClick r:id="rId2"/>
              </a:rPr>
              <a:t>American with Disabilities Act (ADA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s caused major improvements to be made toward accommodating workers who are physically challeng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4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e Discrimination in Employment Act bars employers from using age as a basis for employment decisiongs (hiring, promotions, or terminations).  Protects persons aged 40 and ol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C:\Documents and Settings\30800\Local Settings\Temporary Internet Files\Content.IE5\CRSJFY9F\MM900318135[1].gif"/>
          <p:cNvPicPr/>
          <p:nvPr/>
        </p:nvPicPr>
        <p:blipFill>
          <a:blip r:embed="rId3"/>
          <a:stretch/>
        </p:blipFill>
        <p:spPr>
          <a:xfrm>
            <a:off x="8223120" y="1522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C:\Documents and Settings\30800\Local Settings\Temporary Internet Files\Content.IE5\D89UTEWN\MP900411830[1].jpg"/>
          <p:cNvPicPr/>
          <p:nvPr/>
        </p:nvPicPr>
        <p:blipFill>
          <a:blip r:embed="rId4"/>
          <a:stretch/>
        </p:blipFill>
        <p:spPr>
          <a:xfrm>
            <a:off x="-228600" y="3962520"/>
            <a:ext cx="1303200" cy="1371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3ACA823A-484D-4208-A90A-79A87CF2F33C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0024"/>
                </a:solidFill>
                <a:latin typeface="Arial"/>
              </a:rPr>
              <a:t>SOCIAL RESPONSIBILITY ISSUES cont.</a:t>
            </a:r>
            <a:r>
              <a:rPr b="1" lang="en-US" sz="2800" spc="-1" strike="noStrike">
                <a:solidFill>
                  <a:srgbClr val="e00024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45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3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ers should be able to work in an office or factory free from the risks that could cause acci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3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environment should provide full protection from fire and other haza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3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ers need to know how to manage the unexp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3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fety also involves employee training in how to work safely and what to do in case of an emerg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3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employers have put a variety of programs into practice to protect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3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deral and State governments have passed laws to make the workplace saf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3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al Safety and Health Administration regulates and enforces safety standa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 we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34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healthy workforce is a productive workfor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34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es do a number of things to promote a healthy lifestyle like stop smoking seminars, weight loss programs, and counseling for employees with drug probl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34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uses that relate to employee well-being are often included in labor contracts and company policy manua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34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se clauses are conditions or work that pertain to the health and safety of employees while on the job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34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me companies sponsor sports teams and encourage employees to take pa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C:\Documents and Settings\30800\Local Settings\Temporary Internet Files\Content.IE5\XAST5BE9\MC900097825[1].wmf"/>
          <p:cNvPicPr/>
          <p:nvPr/>
        </p:nvPicPr>
        <p:blipFill>
          <a:blip r:embed="rId1"/>
          <a:stretch/>
        </p:blipFill>
        <p:spPr>
          <a:xfrm>
            <a:off x="7010280" y="-304920"/>
            <a:ext cx="1795680" cy="1774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C:\Documents and Settings\30800\Local Settings\Temporary Internet Files\Content.IE5\E0DQETNK\MP900448610[1].jpg"/>
          <p:cNvPicPr/>
          <p:nvPr/>
        </p:nvPicPr>
        <p:blipFill>
          <a:blip r:embed="rId2"/>
          <a:stretch/>
        </p:blipFill>
        <p:spPr>
          <a:xfrm>
            <a:off x="-27000" y="3505320"/>
            <a:ext cx="1371600" cy="2057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43F7EEC0-8887-4FB0-B30B-D6082AD5312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 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four areas of social responsibility that may require the attention of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A0C8D513-44AF-4FCB-B11C-1D06117FF21C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SOCIAL RESPONSIBILITY EVALUATION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88440" indent="-38844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401400"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ed justice for groups of a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401400"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company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401400"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need for government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401400"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d quality of life in a community and around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401400"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awareness of social issues among workers, consumers, and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0" descr="C:\Documents and Settings\30800\Local Settings\Temporary Internet Files\Content.IE5\XAST5BE9\MC900045079[1].wmf"/>
          <p:cNvPicPr/>
          <p:nvPr/>
        </p:nvPicPr>
        <p:blipFill>
          <a:blip r:embed="rId1"/>
          <a:stretch/>
        </p:blipFill>
        <p:spPr>
          <a:xfrm>
            <a:off x="7620120" y="822240"/>
            <a:ext cx="1784160" cy="1738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E749D408-714F-4CAE-AB2A-8D926E90AE0F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SOCIAL RESPONSIBILITY EVALUATION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nonpolluting or safer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repairs to remove r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ness and rehabilitatio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projects sponsored by a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0024"/>
                </a:solidFill>
                <a:latin typeface="Arial"/>
              </a:rPr>
              <a:t>Spending on social programs must be at a suitable level so a business can still earn a reasonable prof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7131240" y="140976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00024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5" descr="C:\Documents and Settings\30800\Local Settings\Temporary Internet Files\Content.IE5\RM2FJ5LU\MP900422746[1].jpg"/>
          <p:cNvPicPr/>
          <p:nvPr/>
        </p:nvPicPr>
        <p:blipFill>
          <a:blip r:embed="rId1"/>
          <a:stretch/>
        </p:blipFill>
        <p:spPr>
          <a:xfrm>
            <a:off x="7128000" y="1879560"/>
            <a:ext cx="2206440" cy="2208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6F65C7D0-03EF-4566-A4FD-16149B2C5D1D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 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main benefits of social responsibi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05:16:20Z</dcterms:created>
  <dc:creator>M. C. McLaughlin</dc:creator>
  <dc:description/>
  <dc:language>en-US</dc:language>
  <cp:lastModifiedBy>test</cp:lastModifiedBy>
  <dcterms:modified xsi:type="dcterms:W3CDTF">2013-11-22T18:14:14Z</dcterms:modified>
  <cp:revision>20</cp:revision>
  <dc:subject/>
  <dc:title>Chapter 4 Social Responsibility of Business and Government</dc:title>
</cp:coreProperties>
</file>