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C865DB-6516-4990-98CB-E51E2F7AC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e chapter…Have students read the article, </a:t>
            </a:r>
            <a:r>
              <a:rPr b="0" i="1" lang="en-US" sz="1200" spc="-1" strike="noStrike">
                <a:solidFill>
                  <a:srgbClr val="000000"/>
                </a:solidFill>
                <a:latin typeface="Arial"/>
              </a:rPr>
              <a:t>Fair Play, Title IX,</a:t>
            </a:r>
            <a:r>
              <a:rPr b="0" lang="en-US" sz="1200" spc="-1" strike="noStrike">
                <a:solidFill>
                  <a:srgbClr val="000000"/>
                </a:solidFill>
                <a:latin typeface="Arial"/>
              </a:rPr>
              <a:t> so they understand what Title IX is when we discuss it as an “increasing c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op selling pract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 – 7</a:t>
            </a:r>
            <a:r>
              <a:rPr b="0" lang="en-US" sz="1200" spc="-1" strike="noStrike" baseline="30000">
                <a:solidFill>
                  <a:srgbClr val="000000"/>
                </a:solidFill>
                <a:latin typeface="Arial"/>
              </a:rPr>
              <a:t>th</a:t>
            </a:r>
            <a:r>
              <a:rPr b="0" lang="en-US" sz="1200" spc="-1" strike="noStrike">
                <a:solidFill>
                  <a:srgbClr val="000000"/>
                </a:solidFill>
                <a:latin typeface="Arial"/>
              </a:rPr>
              <a:t> i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ball – 3</a:t>
            </a:r>
            <a:r>
              <a:rPr b="0" lang="en-US" sz="1200" spc="-1" strike="noStrike" baseline="30000">
                <a:solidFill>
                  <a:srgbClr val="000000"/>
                </a:solidFill>
                <a:latin typeface="Arial"/>
              </a:rPr>
              <a:t>rd</a:t>
            </a:r>
            <a:r>
              <a:rPr b="0" lang="en-US" sz="1200" spc="-1" strike="noStrike">
                <a:solidFill>
                  <a:srgbClr val="000000"/>
                </a:solidFill>
                <a:latin typeface="Arial"/>
              </a:rPr>
              <a:t> quar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ckey – 2</a:t>
            </a:r>
            <a:r>
              <a:rPr b="0" lang="en-US" sz="1200" spc="-1" strike="noStrike" baseline="30000">
                <a:solidFill>
                  <a:srgbClr val="000000"/>
                </a:solidFill>
                <a:latin typeface="Arial"/>
              </a:rPr>
              <a:t>nd</a:t>
            </a:r>
            <a:r>
              <a:rPr b="0" lang="en-US" sz="1200" spc="-1" strike="noStrike">
                <a:solidFill>
                  <a:srgbClr val="000000"/>
                </a:solidFill>
                <a:latin typeface="Arial"/>
              </a:rPr>
              <a:t> perio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Palace at Auburn Hill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70 million arena was built for the Detroit Pistons…it has 180 suites that generate $12 million/yr in suite rentals…paid off the venue debt in 6 yea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12 million income stream now flows directly to the Piston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Coliseum was built in the same year…had only 12 suites compared to the Piston’s 180…Coliseum realizes $15 million less in yearly revenue even though the overall seating capacity of the Coliseum is greater!</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venue is the main reason the Charlotte Hornets relocated to New Orleans in 2002</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What?  Eventually Charlotte built a new facility for their new team that began to play in Charlotte in 2004…Bobcats, right?</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favorable lease agreement </a:t>
            </a:r>
            <a:r>
              <a:rPr b="0" lang="en-US" sz="1200" spc="-1" strike="noStrike">
                <a:solidFill>
                  <a:srgbClr val="000000"/>
                </a:solidFill>
                <a:latin typeface="Wingdings"/>
                <a:ea typeface="Wingdings"/>
              </a:rPr>
              <a:t></a:t>
            </a:r>
            <a:r>
              <a:rPr b="0" lang="en-US" sz="1200" spc="-1" strike="noStrike">
                <a:solidFill>
                  <a:srgbClr val="000000"/>
                </a:solidFill>
                <a:latin typeface="Arial"/>
              </a:rPr>
              <a:t> Orioles retain 90% of luxury suite and 93% of club seat revenue at Camden Yards </a:t>
            </a:r>
            <a:r>
              <a:rPr b="0" lang="en-US" sz="1200" spc="-1" strike="noStrike">
                <a:solidFill>
                  <a:srgbClr val="000000"/>
                </a:solidFill>
                <a:latin typeface="Wingdings"/>
                <a:ea typeface="Wingdings"/>
              </a:rPr>
              <a:t></a:t>
            </a:r>
            <a:r>
              <a:rPr b="0" lang="en-US" sz="1200" spc="-1" strike="noStrike">
                <a:solidFill>
                  <a:srgbClr val="000000"/>
                </a:solidFill>
                <a:latin typeface="Arial"/>
              </a:rPr>
              <a:t> yielding $12 million in yearly revenue.</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s, Luxury Seating is the fastest growing source of income for professional teams, and it is starting to be used at the college level, to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n area saturated with luxury su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timore/Washington area is saturated with over 6000 luxury suites i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oles ballpa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skins and Ravens stadium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and Capitals new are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are in business to make a prof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one management definition – Working with people to get the job done in an efficient and cost-effective manner ultimately maximizing profi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wants profits to increase every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make that happen, b/c there are two serious financial challenges fac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view the Revenue – Costs = Profit lin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things like ticket sales, concession sales, sales of licensed sport mdse., sales of sign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ll costs of running the franchise…things like coaches salaries, cleaning supplies, janitorial staff, hotdog rolls, anyth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increasing costs and stable/declining revenue, it is hard enough to sustain profits let alone increase them each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 managers are challe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ermanent basis…A previous program from the Oakland Raiders failed because it lacked the permanent feat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rst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Financial Group paid $139.6 million over 20 years, an annual average of $6.7 million, to obtain the naming rights to the Eagles new sta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ollege”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aryland…made a 25-year, $20 million naming rights deal with Comcast Corporation…Comcast Center opened in Nov. 2002 for the Terrapins’ men’s and women’s basketball tea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the “Overall”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T Bank paid $75 million over 15 years in 2003 for the naming rights to the Baltimore Raven’s sta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y got for their money…prominent placement of the M&amp;T Bank name inside and outside the stadium, a luxury suite for all stadium events, in- stadium M&amp;T Bank ATMs, a mini-bank branch near the ticket counters, highway signs, and the renaming of the team’s band to “M&amp;T Bank Marching Rav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that is extensive public expos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ightened Visibility</a:t>
            </a:r>
            <a:r>
              <a:rPr b="0" lang="en-US" sz="1200" spc="-1" strike="noStrike">
                <a:solidFill>
                  <a:srgbClr val="000000"/>
                </a:solidFill>
                <a:latin typeface="Arial"/>
              </a:rPr>
              <a:t> – opportunity to increase awareness of a new or existing brand o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Enhancement</a:t>
            </a:r>
            <a:r>
              <a:rPr b="0" lang="en-US" sz="1200" spc="-1" strike="noStrike">
                <a:solidFill>
                  <a:srgbClr val="000000"/>
                </a:solidFill>
                <a:latin typeface="Arial"/>
              </a:rPr>
              <a:t> – Ability to create or reinforce an image for a product or to counter a negative public perception by aligning the company’s name with a team or event that has great prestige or fan app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duct Trial or Sale Opportunities</a:t>
            </a:r>
            <a:r>
              <a:rPr b="0" lang="en-US" sz="1200" spc="-1" strike="noStrike">
                <a:solidFill>
                  <a:srgbClr val="000000"/>
                </a:solidFill>
                <a:latin typeface="Arial"/>
              </a:rPr>
              <a:t> – Opportunity to showcase product benefits (think of tire manufacturer’s sponsorship of auto racing); or to induce sales through promotional giveaways, coupon tie-ins or point of purchase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ospitality Opportunities</a:t>
            </a:r>
            <a:r>
              <a:rPr b="0" lang="en-US" sz="1200" spc="-1" strike="noStrike">
                <a:solidFill>
                  <a:srgbClr val="000000"/>
                </a:solidFill>
                <a:latin typeface="Arial"/>
              </a:rPr>
              <a:t> – companies can entertain key clients at sporting events.  For example, golf tournament sponsors offer prime customers a chance to be hosted in VIP tents for the event – a great setting for solidifying business relationshi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ponsors of Georgia Tech football games got the following in return for their sponsorship fe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regional TV spots during the gam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page ad on game day in Atlanta’s leading newspape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hospitality tent on game da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atered luxury suit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seating for 250</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logo posted at the stadium and on all season football post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ty fee revenue received by the 4 major professional leagues (NFL, NBA, MLS NHL) each year exceed $850 mill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Hug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cinnati spent $44 million to build Riverfront stadium in 1970 for the Reds (MLB) and Bengals (NF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6, Cincinnati decided to replace it with two venues:  Paul Brown Stadium (football) and Great American Ballpark (base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st over $720 million.  It is possible that the debt service (cost of paying back principle and interest) in any given year could be as high as $40 million – almost what it cost to build Riverfront stadium just over 25 year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Have Skyrocketed!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average MLB player salary was $2.3 million, an increase of 123% from the $1.03 million average salary 10 years earlier in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L states 68% of the total team revenues are spent on sal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A states that player salaries consume 64% of total revenues annu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ition Cost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uition is rapidly increasing at all colleges, athletic departments are forced to spend much more on athletic schola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X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itle IX only effects educational institutions receiving federal funding, it does not effect professional sports (interscholastic and intercollegiate athletics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d heading, state the following before moving through the rest of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four sport leagues (MLB, NHL, NBA and NFL) grew from 73 teams in 1975 to 123 in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NBA and MLS are both gr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CAR and PGA are also growing in popula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league ice hockey and basketball have grown fast over last dec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na Football League (AFL) has g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sports </a:t>
            </a:r>
            <a:r>
              <a:rPr b="0" lang="en-US" sz="1200" spc="-1" strike="noStrike">
                <a:solidFill>
                  <a:srgbClr val="000000"/>
                </a:solidFill>
                <a:latin typeface="Wingdings"/>
                <a:ea typeface="Wingdings"/>
              </a:rPr>
              <a:t></a:t>
            </a:r>
            <a:r>
              <a:rPr b="0" lang="en-US" sz="1200" spc="-1" strike="noStrike">
                <a:solidFill>
                  <a:srgbClr val="000000"/>
                </a:solidFill>
                <a:latin typeface="Arial"/>
              </a:rPr>
              <a:t> X-Games and Great Outdoor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y is Staggering in Scope and Siz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Institutional Support under College Sports heading…this refers to more financial support from the univer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will discuss the Traditional Sources of Revenue for sports, then discuss some of the Newer Sources of Revenue that have sustained profits over the last 10 years in the face of increasing costs and declining reven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arding the NFL’s most prominent source of reven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s owners of NFL agreed to equally share the revenue from the </a:t>
            </a:r>
            <a:r>
              <a:rPr b="1" i="1" lang="en-US" sz="1200" spc="-1" strike="noStrike">
                <a:solidFill>
                  <a:srgbClr val="000000"/>
                </a:solidFill>
                <a:latin typeface="Arial"/>
              </a:rPr>
              <a:t>national </a:t>
            </a:r>
            <a:r>
              <a:rPr b="0" lang="en-US" sz="1200" spc="-1" strike="noStrike">
                <a:solidFill>
                  <a:srgbClr val="000000"/>
                </a:solidFill>
                <a:latin typeface="Arial"/>
              </a:rPr>
              <a:t>broadcast contr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total revenue generated by NFL teams comes from this broadcast revenue sharing arran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qual share revenue distribution agreement assures financial equality among NFL franchi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in the smallest markets…like Green Bay Packers receive the same common share ($74.5 million in 2001) as teams in the largest markets, such as the New York Giants and J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sharing does not occur…a huge difference exists  in broadcasting revenue due to the difference in </a:t>
            </a:r>
            <a:r>
              <a:rPr b="1" i="1" lang="en-US" sz="1200" spc="-1" strike="noStrike">
                <a:solidFill>
                  <a:srgbClr val="000000"/>
                </a:solidFill>
                <a:latin typeface="Arial"/>
              </a:rPr>
              <a:t>local</a:t>
            </a:r>
            <a:r>
              <a:rPr b="0" lang="en-US" sz="1200" spc="-1" strike="noStrike">
                <a:solidFill>
                  <a:srgbClr val="000000"/>
                </a:solidFill>
                <a:latin typeface="Arial"/>
              </a:rPr>
              <a:t> TV revenues paid to teams in large metro areas vs. those in smaller c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0FB69-C149-402E-A6A4-7EEE87F82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36550-F031-4162-A3CF-FBB974509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4A6AA-1AE5-4EF9-B708-F6FFF2114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A8923-DAF8-45F7-B303-A6F66408B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A9C03-1F16-4E20-BC56-52E30AB25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F8DD5-C280-459B-9D4B-380DE90D6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DE6BD-E18F-4969-ACEC-020EFEC0F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8A95E-1D63-4EF9-A0DE-D1CB917DB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5C2C2-AFC2-42D9-8DE6-A2222CC2B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0E574-EF31-4EEB-92D1-81641B1E2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506C2-682C-4F9E-8376-97FC1894D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857C6-FF18-4F98-AAAE-D94175DA2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588DB-0C27-4F1B-BD64-374244BA5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1F789-4036-456A-8300-DA0AA8B99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343AD-03BC-4B95-8968-7E1B5D955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51689-FCA3-4440-B94E-5AF0B8571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4C7F4-6414-4FFA-8B73-923144ED7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5F55-28E5-4CBC-AB4E-FC79C3737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81163-057B-4CBE-A9E1-9CFEBDC19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063EB-6FF6-4CDD-B846-7A16826CC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490D5-3E82-4E99-BF79-E266A6B72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2091-7E3A-49AF-AFFE-0BF54320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236A1-313E-4928-AB96-56ABFDEB1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C316-569A-4113-9D25-6C960C8E0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5377-B27A-4A76-99B8-FDE0091ECC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A6E-E0FB-4BA3-80C7-7A3DF0FBE0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port Management</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inancial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Revenue Sourc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 </a:t>
            </a:r>
            <a:r>
              <a:rPr b="0" lang="en-US" sz="2600" spc="-1" strike="noStrike">
                <a:solidFill>
                  <a:srgbClr val="000000"/>
                </a:solidFill>
                <a:latin typeface="Wingdings"/>
                <a:ea typeface="Wingdings"/>
              </a:rPr>
              <a:t></a:t>
            </a:r>
            <a:r>
              <a:rPr b="0" lang="en-US" sz="2600" spc="-1" strike="noStrike">
                <a:solidFill>
                  <a:srgbClr val="000000"/>
                </a:solidFill>
                <a:latin typeface="Arial"/>
              </a:rPr>
              <a:t> Determining optimal ticket pric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reasing prices discourage fan from attending</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exists a </a:t>
            </a:r>
            <a:r>
              <a:rPr b="0" lang="en-US" sz="2300" spc="-1" strike="noStrike" u="sng">
                <a:solidFill>
                  <a:srgbClr val="000000"/>
                </a:solidFill>
                <a:uFillTx/>
                <a:latin typeface="Arial"/>
              </a:rPr>
              <a:t>price threshold</a:t>
            </a:r>
            <a:r>
              <a:rPr b="0" lang="en-US" sz="2300" spc="-1" strike="noStrike">
                <a:solidFill>
                  <a:srgbClr val="000000"/>
                </a:solidFill>
                <a:latin typeface="Arial"/>
              </a:rPr>
              <a:t>; the price beyond which fans will resist paymen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 identify customer’s expected price threshold by conducting </a:t>
            </a:r>
            <a:r>
              <a:rPr b="0" lang="en-US" sz="2300" spc="-1" strike="noStrike" u="sng">
                <a:solidFill>
                  <a:srgbClr val="000000"/>
                </a:solidFill>
                <a:uFillTx/>
                <a:latin typeface="Arial"/>
              </a:rPr>
              <a:t>market research</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essional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od service and souvenir merchandise account for a large share of revenue.</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Leagu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GER</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ticket sales are low, concession sales are very important – they may actually determine a teams profitabil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teur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LITTLE</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of a financial role because of the lack of beer sal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rofessional sports, beer account for approximately 35% to 55% of total concess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st colleges and high schools do not allow beer sal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0" name="PlaceHolder 2"/>
          <p:cNvSpPr>
            <a:spLocks noGrp="1"/>
          </p:cNvSpPr>
          <p:nvPr>
            <p:ph/>
          </p:nvPr>
        </p:nvSpPr>
        <p:spPr>
          <a:xfrm>
            <a:off x="914040" y="1599840"/>
            <a:ext cx="8001000" cy="52578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cohol is a serious concern</a:t>
            </a:r>
            <a:endParaRPr b="0" lang="en-US" sz="26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a revenue perspective, sales of alcohol make sense, however…</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ightened awareness of the negative consequences of drinking, including traffic deaths, underage drinking, and unruly fan behavior, have led sport organizations to re-evaluate their policies surrounding alcohol.</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include:</a:t>
            </a:r>
            <a:endParaRPr b="0" lang="en-US" sz="21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ed “family sections” where alcohol is prohibited </a:t>
            </a:r>
            <a:endParaRPr b="0" lang="en-US" sz="18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elling practices</a:t>
            </a:r>
            <a:endParaRPr b="0" lang="en-US" sz="1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lcohol will continue to be a serious concern</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in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Trend in Concession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ing diverse and higher quality food and beverage opt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sed on the idea that fans will spend more if offered appealing choices like:</a:t>
            </a:r>
            <a:endParaRPr b="0" lang="en-US" sz="23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cale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ourt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staff </a:t>
            </a:r>
            <a:endParaRPr b="0" lang="en-US" sz="20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s it worked?  Yes, spending has increas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5335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rPr>
              <a:t>Ticket Sales and Concessions will continue to provide a foundation of revenue for sport teams, however, increasing costs and competition force managers to seek out new sources of revenue to maintain profi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eating</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anent Seat License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Righ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ing</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Fastest growing source of income</a:t>
            </a:r>
            <a:r>
              <a:rPr b="0" lang="en-US" sz="2600" spc="-1" strike="noStrike">
                <a:solidFill>
                  <a:srgbClr val="000000"/>
                </a:solidFill>
                <a:latin typeface="Arial"/>
              </a:rPr>
              <a:t> for professional teams.</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uit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t bar, carpeting, TV, catered food, private bath, VIP parking pass, seating for 12 to 24</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urchased or leased by corporations for entertaining clients or rewarding employe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x laws allow businesses to deduct 50% of the cost as a business entertainment expense.  This has encouraged thousands of corporations to inve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b Sea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de bottom, cushioned seats with chair backs, in-seat wait service, enclosed lounge area, wide screen TV</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extravagant option for individual fans seeking premium seating.</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potential is hu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 potential was fully demonstrated when the Palace at Auburn Hills was built in 1988.</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alization of income potential associated with luxury seating has prompted many teams to </a:t>
            </a:r>
            <a:r>
              <a:rPr b="0" lang="en-US" sz="2300" spc="-1" strike="noStrike" u="sng">
                <a:solidFill>
                  <a:srgbClr val="000000"/>
                </a:solidFill>
                <a:uFillTx/>
                <a:latin typeface="Arial"/>
              </a:rPr>
              <a:t>threaten relocation</a:t>
            </a:r>
            <a:r>
              <a:rPr b="0" lang="en-US" sz="2300" spc="-1" strike="noStrike">
                <a:solidFill>
                  <a:srgbClr val="000000"/>
                </a:solidFill>
                <a:latin typeface="Arial"/>
              </a:rPr>
              <a:t> to a newer venue with more suit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eter relocation, teams are often granted </a:t>
            </a:r>
            <a:r>
              <a:rPr b="0" lang="en-US" sz="2300" spc="-1" strike="noStrike" u="sng">
                <a:solidFill>
                  <a:srgbClr val="000000"/>
                </a:solidFill>
                <a:uFillTx/>
                <a:latin typeface="Arial"/>
              </a:rPr>
              <a:t>favorable lease agreements</a:t>
            </a:r>
            <a:r>
              <a:rPr b="0" lang="en-US" sz="2300" spc="-1" strike="noStrike">
                <a:solidFill>
                  <a:srgbClr val="000000"/>
                </a:solidFill>
                <a:latin typeface="Arial"/>
              </a:rPr>
              <a:t> allowing them to  retain the majority of luxury seating reven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possible that suite construction has exceeded demand.</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there be enough corporations to support all the suites being buil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very market there is a finite number of businesses with the financial capability and willingness to spend money on sui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inancial Health of Spo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erious Financial Challenges Face Managers of Sport Organization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st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eclining Revenu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 Costs = Profit</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70M = $30M</a:t>
            </a:r>
            <a:endParaRPr b="0" lang="en-US" sz="28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80M = $20M </a:t>
            </a:r>
            <a:r>
              <a:rPr b="0" lang="en-US" sz="1400" spc="-1" strike="noStrike">
                <a:solidFill>
                  <a:srgbClr val="000000"/>
                </a:solidFill>
                <a:latin typeface="Arial"/>
              </a:rPr>
              <a:t>(increased costs)</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M - $80M = $10M </a:t>
            </a:r>
            <a:r>
              <a:rPr b="0" lang="en-US" sz="1400" spc="-1" strike="noStrike">
                <a:solidFill>
                  <a:srgbClr val="000000"/>
                </a:solidFill>
                <a:latin typeface="Arial"/>
              </a:rPr>
              <a:t>(increased costs &amp; reduced revenue)</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txBox="1"/>
          <p:nvPr/>
        </p:nvSpPr>
        <p:spPr>
          <a:xfrm>
            <a:off x="2590920" y="5713560"/>
            <a:ext cx="4267080" cy="114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Double Whamm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ppt_x"/>
                                          </p:val>
                                        </p:tav>
                                        <p:tav tm="100000">
                                          <p:val>
                                            <p:strVal val="#ppt_x"/>
                                          </p:val>
                                        </p:tav>
                                      </p:tavLst>
                                    </p:anim>
                                    <p:anim calcmode="lin" valueType="num">
                                      <p:cBhvr additive="base">
                                        <p:cTn id="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 fans the </a:t>
            </a:r>
            <a:r>
              <a:rPr b="0" lang="en-US" sz="2600" spc="-1" strike="noStrike" u="sng">
                <a:solidFill>
                  <a:srgbClr val="000000"/>
                </a:solidFill>
                <a:uFillTx/>
                <a:latin typeface="Arial"/>
              </a:rPr>
              <a:t>right to purchase</a:t>
            </a:r>
            <a:r>
              <a:rPr b="0" lang="en-US" sz="2600" spc="-1" strike="noStrike">
                <a:solidFill>
                  <a:srgbClr val="000000"/>
                </a:solidFill>
                <a:latin typeface="Arial"/>
              </a:rPr>
              <a:t> season tickets, often for the life of the venue, in return for an </a:t>
            </a:r>
            <a:r>
              <a:rPr b="0" lang="en-US" sz="2600" spc="-1" strike="noStrike" u="sng">
                <a:solidFill>
                  <a:srgbClr val="000000"/>
                </a:solidFill>
                <a:uFillTx/>
                <a:latin typeface="Arial"/>
              </a:rPr>
              <a:t>up-front payment</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s vary based upon seat location</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adopt the concep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gles PSL program at the Link</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ed 29,000 seat licens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s ranged from $1,760 to $3,617</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ised $60 mill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 (cont.)</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eatures of Successful PSL Program</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ust be sold on a permanent basis (for the life of the stadium)</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wners must have the right to sell or transfer the license to any other family member</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ey back guarantee – team agrees to buy back the license for current market value or no less than 70% to 85% of its original pri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8" name="PlaceHolder 2"/>
          <p:cNvSpPr>
            <a:spLocks noGrp="1"/>
          </p:cNvSpPr>
          <p:nvPr>
            <p:ph/>
          </p:nvPr>
        </p:nvSpPr>
        <p:spPr>
          <a:xfrm>
            <a:off x="914040" y="1600200"/>
            <a:ext cx="8001000" cy="510552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rporation purchases the right to put its name on a stadium or aren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ed in the 1990’s, but halted a bit in early 2000 due to economic slowdown and technology industry stock crash, which forced many companies to prematurely end their naming rights deals (Enron; Adelphi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ility owners are now careful about attracting naming rights partners that are stable and reputabl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ming rights market seems to have begun to reemerge since late 200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ing rate at a major venue is $2 to $6 million per year</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use naming rights sponsors as a way to raise money to build new facilitie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corporations see naming rights as a </a:t>
            </a:r>
            <a:r>
              <a:rPr b="0" lang="en-US" sz="2600" spc="-1" strike="noStrike" u="sng">
                <a:solidFill>
                  <a:srgbClr val="000000"/>
                </a:solidFill>
                <a:uFillTx/>
                <a:latin typeface="Arial"/>
              </a:rPr>
              <a:t>cost-effective way</a:t>
            </a:r>
            <a:r>
              <a:rPr b="0" lang="en-US" sz="2600" spc="-1" strike="noStrike">
                <a:solidFill>
                  <a:srgbClr val="000000"/>
                </a:solidFill>
                <a:latin typeface="Arial"/>
              </a:rPr>
              <a:t> for their company to recei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quisition of rights to affiliate or directly associate with a  product or event for the purpose of deriving benefits related to that affiliation.  (remember thi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ts for the Corporation</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ightened Visibility</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age Enhancement</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Trial or Sale Opportunities</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spitality Opport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4"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 (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 is a great way to achie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rge corporations will receive thousands of sponsorship proposals a year.</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Marketing approach</a:t>
            </a:r>
            <a:r>
              <a:rPr b="0" lang="en-US" sz="2300" spc="-1" strike="noStrike">
                <a:solidFill>
                  <a:srgbClr val="000000"/>
                </a:solidFill>
                <a:latin typeface="Arial"/>
              </a:rPr>
              <a:t> to solicit sponsors; proposals must be tailored to the needs of the busines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ey to identify what a company is </a:t>
            </a:r>
            <a:r>
              <a:rPr b="0" lang="en-US" sz="2300" spc="-1" strike="noStrike" u="sng">
                <a:solidFill>
                  <a:srgbClr val="000000"/>
                </a:solidFill>
                <a:uFillTx/>
                <a:latin typeface="Arial"/>
              </a:rPr>
              <a:t>willing to pay</a:t>
            </a:r>
            <a:r>
              <a:rPr b="0" lang="en-US" sz="2300" spc="-1" strike="noStrike">
                <a:solidFill>
                  <a:srgbClr val="000000"/>
                </a:solidFill>
                <a:latin typeface="Arial"/>
              </a:rPr>
              <a:t>, and what they will </a:t>
            </a:r>
            <a:r>
              <a:rPr b="0" lang="en-US" sz="2300" spc="-1" strike="noStrike" u="sng">
                <a:solidFill>
                  <a:srgbClr val="000000"/>
                </a:solidFill>
                <a:uFillTx/>
                <a:latin typeface="Arial"/>
              </a:rPr>
              <a:t>want in return</a:t>
            </a:r>
            <a:r>
              <a:rPr b="0" lang="en-US" sz="2300" spc="-1" strike="noStrike">
                <a:solidFill>
                  <a:srgbClr val="000000"/>
                </a:solidFill>
                <a:latin typeface="Arial"/>
              </a:rPr>
              <a:t> for investing as a sponsor.</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e of licensed sport merchandis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fans buy, the more revenu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comes from Royalty Fe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id by the manufacturer for the right to sell merchandise with a team name or logo</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 of the wholesale price</a:t>
            </a:r>
            <a:r>
              <a:rPr b="0" lang="en-US" sz="2300" spc="-1" strike="noStrike">
                <a:solidFill>
                  <a:srgbClr val="000000"/>
                </a:solidFill>
                <a:latin typeface="Arial"/>
              </a:rPr>
              <a:t> of the product</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oyalty fee is </a:t>
            </a:r>
            <a:r>
              <a:rPr b="0" lang="en-US" sz="2300" spc="-1" strike="noStrike" u="sng">
                <a:solidFill>
                  <a:srgbClr val="000000"/>
                </a:solidFill>
                <a:uFillTx/>
                <a:latin typeface="Arial"/>
              </a:rPr>
              <a:t>8.5%</a:t>
            </a:r>
            <a:r>
              <a:rPr b="0" lang="en-US" sz="2300" spc="-1" strike="noStrike">
                <a:solidFill>
                  <a:srgbClr val="000000"/>
                </a:solidFill>
                <a:latin typeface="Arial"/>
              </a:rPr>
              <a:t> for the 4 professional leagu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ach league, royalty fee proceeds are </a:t>
            </a:r>
            <a:r>
              <a:rPr b="0" lang="en-US" sz="2300" spc="-1" strike="noStrike" u="sng">
                <a:solidFill>
                  <a:srgbClr val="000000"/>
                </a:solidFill>
                <a:uFillTx/>
                <a:latin typeface="Arial"/>
              </a:rPr>
              <a:t>pooled</a:t>
            </a:r>
            <a:r>
              <a:rPr b="0" lang="en-US" sz="2300" spc="-1" strike="noStrike">
                <a:solidFill>
                  <a:srgbClr val="000000"/>
                </a:solidFill>
                <a:latin typeface="Arial"/>
              </a:rPr>
              <a:t> and </a:t>
            </a:r>
            <a:r>
              <a:rPr b="0" lang="en-US" sz="2300" spc="-1" strike="noStrike" u="sng">
                <a:solidFill>
                  <a:srgbClr val="000000"/>
                </a:solidFill>
                <a:uFillTx/>
                <a:latin typeface="Arial"/>
              </a:rPr>
              <a:t>divided equally</a:t>
            </a:r>
            <a:r>
              <a:rPr b="0" lang="en-US" sz="2300" spc="-1" strike="noStrike">
                <a:solidFill>
                  <a:srgbClr val="000000"/>
                </a:solidFill>
                <a:latin typeface="Arial"/>
              </a:rPr>
              <a:t> among all teams in the leag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used in minor leagues and at the college leve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yet used with amateur and high school sport program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way to protect and promote a team name and logo while generating substantial reven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t entities are facing a </a:t>
            </a:r>
            <a:r>
              <a:rPr b="0" lang="en-US" sz="2800" spc="-1" strike="noStrike" u="sng">
                <a:solidFill>
                  <a:srgbClr val="000000"/>
                </a:solidFill>
                <a:uFillTx/>
                <a:latin typeface="Arial"/>
              </a:rPr>
              <a:t>Double Whammy</a:t>
            </a:r>
            <a:r>
              <a:rPr b="0" lang="en-US" sz="2800" spc="-1" strike="noStrike">
                <a:solidFill>
                  <a:srgbClr val="000000"/>
                </a:solidFill>
                <a:latin typeface="Arial"/>
              </a:rPr>
              <a:t>; stable/declining revenue resulting from increased competition, and increasing cos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revenue sources, like ticket sales and concessions are not enough to maintain profi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profits, successful sport managers will continue to create and expand opportunities for their organizations to secure new sources of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Professional</a:t>
            </a:r>
            <a:endParaRPr b="0" lang="en-US" sz="4200" spc="-1" strike="noStrike">
              <a:solidFill>
                <a:srgbClr val="330033"/>
              </a:solidFill>
              <a:latin typeface="Times New Roman"/>
            </a:endParaRPr>
          </a:p>
        </p:txBody>
      </p:sp>
      <p:sp>
        <p:nvSpPr>
          <p:cNvPr id="110" name="PlaceHolder 2"/>
          <p:cNvSpPr>
            <a:spLocks noGrp="1"/>
          </p:cNvSpPr>
          <p:nvPr>
            <p:ph/>
          </p:nvPr>
        </p:nvSpPr>
        <p:spPr>
          <a:xfrm>
            <a:off x="2361960" y="2133720"/>
            <a:ext cx="5638680" cy="39211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of financing new ven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 Sal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College</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aches Salar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ition Costs (for athletic scholarshi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e aimed at eliminating </a:t>
            </a:r>
            <a:r>
              <a:rPr b="0" lang="en-US" sz="2600" spc="-1" strike="noStrike" u="sng">
                <a:solidFill>
                  <a:srgbClr val="000000"/>
                </a:solidFill>
                <a:uFillTx/>
                <a:latin typeface="Arial"/>
              </a:rPr>
              <a:t>gender discrimination</a:t>
            </a:r>
            <a:r>
              <a:rPr b="0" lang="en-US" sz="2600" spc="-1" strike="noStrike">
                <a:solidFill>
                  <a:srgbClr val="000000"/>
                </a:solidFill>
                <a:latin typeface="Arial"/>
              </a:rPr>
              <a:t> in educational institutions that receive </a:t>
            </a:r>
            <a:r>
              <a:rPr b="0" lang="en-US" sz="2600" spc="-1" strike="noStrike" u="sng">
                <a:solidFill>
                  <a:srgbClr val="000000"/>
                </a:solidFill>
                <a:uFillTx/>
                <a:latin typeface="Arial"/>
              </a:rPr>
              <a:t>federal funding</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High School</a:t>
            </a:r>
            <a:endParaRPr b="0" lang="en-US" sz="4200" spc="-1" strike="noStrike">
              <a:solidFill>
                <a:srgbClr val="330033"/>
              </a:solidFill>
              <a:latin typeface="Times New Roman"/>
            </a:endParaRPr>
          </a:p>
        </p:txBody>
      </p:sp>
      <p:sp>
        <p:nvSpPr>
          <p:cNvPr id="114" name="PlaceHolder 2"/>
          <p:cNvSpPr>
            <a:spLocks noGrp="1"/>
          </p:cNvSpPr>
          <p:nvPr>
            <p:ph/>
          </p:nvPr>
        </p:nvSpPr>
        <p:spPr>
          <a:xfrm>
            <a:off x="2362320" y="2286000"/>
            <a:ext cx="4876560" cy="384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able/Declining Revenue</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While rising costs are a concern, sport managers also face declining revenue as a result of increased competition.</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 Support </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fans is intense.  With more variety of sporting options, consumers have never had so many options for spending their entertainment dollars.</a:t>
            </a:r>
            <a:endParaRPr b="0" lang="en-US" sz="21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Sponsorship</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sponsorship dollars is intense.  Corporations have limited sponsorship budgets, and an increasing number of sporting options for spending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Double Whamm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Double Whammy!</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Increasing costs coupled with stable/declining revenue!</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How are sport managers handling it?</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ster Clubs; Participation Fees; Soliciting Corporate Sponsors (like PHS and Coca Cola)</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Support; Soliciting Corporate Sponsors</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 sport managers recognize that future financial success will depend on their ability to aggressively </a:t>
            </a:r>
            <a:r>
              <a:rPr b="0" lang="en-US" sz="2100" spc="-1" strike="noStrike" u="sng">
                <a:solidFill>
                  <a:srgbClr val="000000"/>
                </a:solidFill>
                <a:uFillTx/>
                <a:latin typeface="Arial"/>
              </a:rPr>
              <a:t>secure new sources of revenu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hese income generating options have provided the financial foundation for sport organizations for many decad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600" spc="-1" strike="noStrike" u="sng">
                <a:solidFill>
                  <a:srgbClr val="000000"/>
                </a:solidFill>
                <a:uFillTx/>
                <a:latin typeface="Arial"/>
              </a:rPr>
              <a:t>most prominent revenue source</a:t>
            </a:r>
            <a:r>
              <a:rPr b="0" lang="en-US" sz="2600" spc="-1" strike="noStrike">
                <a:solidFill>
                  <a:srgbClr val="000000"/>
                </a:solidFill>
                <a:latin typeface="Arial"/>
              </a:rPr>
              <a:t> for professional sport franchises (except NF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is based upon two factors:</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of tickets sold</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 of each ticket</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ms have increased prices over the years to increase profit.</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2:30:38Z</dcterms:created>
  <dc:creator>HP Authorized Customer</dc:creator>
  <dc:description/>
  <dc:language>en-US</dc:language>
  <cp:lastModifiedBy>Parkland School District</cp:lastModifiedBy>
  <cp:lastPrinted>2007-10-02T12:03:35Z</cp:lastPrinted>
  <dcterms:modified xsi:type="dcterms:W3CDTF">2008-11-05T17:30:56Z</dcterms:modified>
  <cp:revision>80</cp:revision>
  <dc:subject/>
  <dc:title>Sport Management</dc:title>
</cp:coreProperties>
</file>